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E83D-4057-43A5-A2A0-30024FD9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7FF6-762D-4D1A-8CA4-AFF91B32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976D-0916-4952-9942-57FF92D8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9814-DF06-4A29-9032-2EDC5830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D703-58E6-4711-8203-8D53AAC9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70E2-C96E-4191-9770-9B804B79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DD9E-2EB5-4E39-87ED-3B485E8F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332E-D2EF-47F3-8467-DB2DA5FA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5C5E-3183-4CB0-8B2D-F0F31CF2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E002-0B6C-4CEF-B2D4-8797AAB1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8B26-CAD3-4CFD-99D4-8FC8B044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FD9A-48B5-47E9-8AC1-7D6D3E79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Fa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Fax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Fax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Fax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Fax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6E08-B865-4179-96E4-262027020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0" y="2438280"/>
            <a:ext cx="4143240" cy="441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Building a Pedigree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Please add the group names and then resave this document as </a:t>
            </a:r>
            <a:r>
              <a:rPr b="1" i="1" lang="en-US" sz="3200" spc="-1" strike="noStrike">
                <a:solidFill>
                  <a:srgbClr val="000000"/>
                </a:solidFill>
                <a:latin typeface="Lucida Fax"/>
              </a:rPr>
              <a:t>(group name) pedigree ppt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044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B-4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udent will demonstrate an understanding of the molecular basis of heredity. B-4.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 inherited traits by using the principles of Mendelian genetics (including segregation, independent assortment, and dominan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0" y="4876920"/>
            <a:ext cx="190512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lick, drag, ed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9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501" name=""/>
          <p:cNvSpPr/>
          <p:nvPr/>
        </p:nvSpPr>
        <p:spPr>
          <a:xfrm>
            <a:off x="152280" y="5715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228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228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5228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52280" y="5715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5228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5228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52280" y="5715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5228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5228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228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90720" y="5715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99072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99072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99072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90720" y="5715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9072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9072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Fax"/>
              </a:rPr>
              <a:t>Ethnicities are shown when availabl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52280" y="5715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9072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5228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5228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5228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9072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9072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9072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5228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99072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5228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5228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99072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685800" y="1447920"/>
            <a:ext cx="8458200" cy="4056120"/>
            <a:chOff x="685800" y="1447920"/>
            <a:chExt cx="8458200" cy="4056120"/>
          </a:xfrm>
        </p:grpSpPr>
        <p:sp>
          <p:nvSpPr>
            <p:cNvPr id="536" name=""/>
            <p:cNvSpPr/>
            <p:nvPr/>
          </p:nvSpPr>
          <p:spPr>
            <a:xfrm>
              <a:off x="1371600" y="2057400"/>
              <a:ext cx="990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shkenazi J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72200" y="190512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nadi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685800" y="1523880"/>
              <a:ext cx="8305920" cy="3980160"/>
              <a:chOff x="685800" y="1523880"/>
              <a:chExt cx="8305920" cy="3980160"/>
            </a:xfrm>
          </p:grpSpPr>
          <p:sp>
            <p:nvSpPr>
              <p:cNvPr id="539" name=""/>
              <p:cNvSpPr/>
              <p:nvPr/>
            </p:nvSpPr>
            <p:spPr>
              <a:xfrm rot="10800000">
                <a:off x="3657240" y="3276720"/>
                <a:ext cx="304920" cy="457200"/>
              </a:xfrm>
              <a:prstGeom prst="flowChartDelay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"/>
              <p:cNvGrpSpPr/>
              <p:nvPr/>
            </p:nvGrpSpPr>
            <p:grpSpPr>
              <a:xfrm>
                <a:off x="685800" y="1523880"/>
                <a:ext cx="8305920" cy="3980160"/>
                <a:chOff x="685800" y="1523880"/>
                <a:chExt cx="8305920" cy="39801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2971800" y="4419720"/>
                  <a:ext cx="609840" cy="609480"/>
                </a:xfrm>
                <a:prstGeom prst="rect">
                  <a:avLst/>
                </a:prstGeom>
                <a:solidFill>
                  <a:srgbClr val="33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210040" y="1981080"/>
                  <a:ext cx="228600" cy="609840"/>
                </a:xfrm>
                <a:prstGeom prst="rect">
                  <a:avLst/>
                </a:prstGeom>
                <a:solidFill>
                  <a:srgbClr val="33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895840" y="3048120"/>
                  <a:ext cx="228600" cy="609480"/>
                </a:xfrm>
                <a:prstGeom prst="rect">
                  <a:avLst/>
                </a:prstGeom>
                <a:solidFill>
                  <a:srgbClr val="33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4" name=""/>
                <p:cNvGrpSpPr/>
                <p:nvPr/>
              </p:nvGrpSpPr>
              <p:grpSpPr>
                <a:xfrm>
                  <a:off x="685800" y="1523880"/>
                  <a:ext cx="8305920" cy="3980160"/>
                  <a:chOff x="685800" y="1523880"/>
                  <a:chExt cx="8305920" cy="3980160"/>
                </a:xfrm>
              </p:grpSpPr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914400" y="1752480"/>
                    <a:ext cx="8001000" cy="3581280"/>
                    <a:chOff x="914400" y="1752480"/>
                    <a:chExt cx="8001000" cy="3581280"/>
                  </a:xfrm>
                </p:grpSpPr>
                <p:grpSp>
                  <p:nvGrpSpPr>
                    <p:cNvPr id="546" name=""/>
                    <p:cNvGrpSpPr/>
                    <p:nvPr/>
                  </p:nvGrpSpPr>
                  <p:grpSpPr>
                    <a:xfrm>
                      <a:off x="914400" y="1981080"/>
                      <a:ext cx="4419360" cy="3200400"/>
                      <a:chOff x="914400" y="1981080"/>
                      <a:chExt cx="4419360" cy="3200400"/>
                    </a:xfrm>
                  </p:grpSpPr>
                  <p:sp>
                    <p:nvSpPr>
                      <p:cNvPr id="547" name=""/>
                      <p:cNvSpPr/>
                      <p:nvPr/>
                    </p:nvSpPr>
                    <p:spPr>
                      <a:xfrm>
                        <a:off x="3276360" y="4267080"/>
                        <a:ext cx="30492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48" name=""/>
                      <p:cNvGrpSpPr/>
                      <p:nvPr/>
                    </p:nvGrpSpPr>
                    <p:grpSpPr>
                      <a:xfrm>
                        <a:off x="914400" y="1981080"/>
                        <a:ext cx="4419360" cy="3200400"/>
                        <a:chOff x="914400" y="1981080"/>
                        <a:chExt cx="4419360" cy="3200400"/>
                      </a:xfrm>
                    </p:grpSpPr>
                    <p:sp>
                      <p:nvSpPr>
                        <p:cNvPr id="549" name=""/>
                        <p:cNvSpPr/>
                        <p:nvPr/>
                      </p:nvSpPr>
                      <p:spPr>
                        <a:xfrm>
                          <a:off x="3276360" y="4191120"/>
                          <a:ext cx="0" cy="30456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550" name=""/>
                        <p:cNvGrpSpPr/>
                        <p:nvPr/>
                      </p:nvGrpSpPr>
                      <p:grpSpPr>
                        <a:xfrm>
                          <a:off x="914400" y="1981080"/>
                          <a:ext cx="4419360" cy="3200400"/>
                          <a:chOff x="914400" y="1981080"/>
                          <a:chExt cx="4419360" cy="3200400"/>
                        </a:xfrm>
                      </p:grpSpPr>
                      <p:sp>
                        <p:nvSpPr>
                          <p:cNvPr id="551" name=""/>
                          <p:cNvSpPr/>
                          <p:nvPr/>
                        </p:nvSpPr>
                        <p:spPr>
                          <a:xfrm>
                            <a:off x="1752480" y="3429000"/>
                            <a:ext cx="0" cy="30492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2" name=""/>
                          <p:cNvSpPr/>
                          <p:nvPr/>
                        </p:nvSpPr>
                        <p:spPr>
                          <a:xfrm>
                            <a:off x="1600200" y="3429000"/>
                            <a:ext cx="304560" cy="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3" name=""/>
                          <p:cNvSpPr/>
                          <p:nvPr/>
                        </p:nvSpPr>
                        <p:spPr>
                          <a:xfrm>
                            <a:off x="4267080" y="3429000"/>
                            <a:ext cx="304920" cy="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554" name=""/>
                          <p:cNvGrpSpPr/>
                          <p:nvPr/>
                        </p:nvGrpSpPr>
                        <p:grpSpPr>
                          <a:xfrm>
                            <a:off x="914400" y="1981080"/>
                            <a:ext cx="4419360" cy="3200400"/>
                            <a:chOff x="914400" y="1981080"/>
                            <a:chExt cx="4419360" cy="3200400"/>
                          </a:xfrm>
                        </p:grpSpPr>
                        <p:sp>
                          <p:nvSpPr>
                            <p:cNvPr id="555" name=""/>
                            <p:cNvSpPr/>
                            <p:nvPr/>
                          </p:nvSpPr>
                          <p:spPr>
                            <a:xfrm>
                              <a:off x="4724280" y="4572000"/>
                              <a:ext cx="609480" cy="609480"/>
                            </a:xfrm>
                            <a:prstGeom prst="rect">
                              <a:avLst/>
                            </a:prstGeom>
                            <a:noFill/>
                            <a:ln w="127080">
                              <a:solidFill>
                                <a:srgbClr val="0000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James 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Fuller 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556" name=""/>
                            <p:cNvGrpSpPr/>
                            <p:nvPr/>
                          </p:nvGrpSpPr>
                          <p:grpSpPr>
                            <a:xfrm>
                              <a:off x="914400" y="1981080"/>
                              <a:ext cx="4343400" cy="3200400"/>
                              <a:chOff x="914400" y="1981080"/>
                              <a:chExt cx="4343400" cy="3200400"/>
                            </a:xfrm>
                          </p:grpSpPr>
                          <p:sp>
                            <p:nvSpPr>
                              <p:cNvPr id="557" name=""/>
                              <p:cNvSpPr/>
                              <p:nvPr/>
                            </p:nvSpPr>
                            <p:spPr>
                              <a:xfrm>
                                <a:off x="3581280" y="4267080"/>
                                <a:ext cx="1523880" cy="0"/>
                              </a:xfrm>
                              <a:prstGeom prst="line">
                                <a:avLst/>
                              </a:prstGeom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8" name=""/>
                              <p:cNvSpPr/>
                              <p:nvPr/>
                            </p:nvSpPr>
                            <p:spPr>
                              <a:xfrm>
                                <a:off x="3581280" y="3505320"/>
                                <a:ext cx="0" cy="761760"/>
                              </a:xfrm>
                              <a:prstGeom prst="line">
                                <a:avLst/>
                              </a:prstGeom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9" name=""/>
                              <p:cNvSpPr/>
                              <p:nvPr/>
                            </p:nvSpPr>
                            <p:spPr>
                              <a:xfrm>
                                <a:off x="2971800" y="4495680"/>
                                <a:ext cx="609480" cy="609840"/>
                              </a:xfrm>
                              <a:prstGeom prst="rect">
                                <a:avLst/>
                              </a:prstGeom>
                              <a:noFill/>
                              <a:ln w="127080">
                                <a:solidFill>
                                  <a:srgbClr val="0000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John 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Fuller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0" name=""/>
                              <p:cNvSpPr/>
                              <p:nvPr/>
                            </p:nvSpPr>
                            <p:spPr>
                              <a:xfrm>
                                <a:off x="1447560" y="3886200"/>
                                <a:ext cx="609840" cy="609480"/>
                              </a:xfrm>
                              <a:prstGeom prst="rect">
                                <a:avLst/>
                              </a:prstGeom>
                              <a:noFill/>
                              <a:ln w="127080">
                                <a:solidFill>
                                  <a:srgbClr val="0000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Adam 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Hustler, 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Jr.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1" name=""/>
                              <p:cNvSpPr/>
                              <p:nvPr/>
                            </p:nvSpPr>
                            <p:spPr>
                              <a:xfrm>
                                <a:off x="2057400" y="4572000"/>
                                <a:ext cx="609480" cy="609480"/>
                              </a:xfrm>
                              <a:prstGeom prst="ellipse">
                                <a:avLst/>
                              </a:prstGeom>
                              <a:noFill/>
                              <a:ln w="127080">
                                <a:solidFill>
                                  <a:srgbClr val="ff99cc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Sarah 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Best 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Fuller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2" name=""/>
                              <p:cNvSpPr/>
                              <p:nvPr/>
                            </p:nvSpPr>
                            <p:spPr>
                              <a:xfrm>
                                <a:off x="2666880" y="4876920"/>
                                <a:ext cx="304920" cy="0"/>
                              </a:xfrm>
                              <a:prstGeom prst="line">
                                <a:avLst/>
                              </a:prstGeom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563" name=""/>
                              <p:cNvGrpSpPr/>
                              <p:nvPr/>
                            </p:nvGrpSpPr>
                            <p:grpSpPr>
                              <a:xfrm>
                                <a:off x="914400" y="1981080"/>
                                <a:ext cx="4343400" cy="1828800"/>
                                <a:chOff x="914400" y="1981080"/>
                                <a:chExt cx="4343400" cy="1828800"/>
                              </a:xfrm>
                            </p:grpSpPr>
                            <p:grpSp>
                              <p:nvGrpSpPr>
                                <p:cNvPr id="564" name=""/>
                                <p:cNvGrpSpPr/>
                                <p:nvPr/>
                              </p:nvGrpSpPr>
                              <p:grpSpPr>
                                <a:xfrm>
                                  <a:off x="914400" y="1981080"/>
                                  <a:ext cx="4343400" cy="1828800"/>
                                  <a:chOff x="914400" y="1981080"/>
                                  <a:chExt cx="4343400" cy="1828800"/>
                                </a:xfrm>
                              </p:grpSpPr>
                              <p:sp>
                                <p:nvSpPr>
                                  <p:cNvPr id="565" name=""/>
                                  <p:cNvSpPr/>
                                  <p:nvPr/>
                                </p:nvSpPr>
                                <p:spPr>
                                  <a:xfrm>
                                    <a:off x="3429000" y="3505320"/>
                                    <a:ext cx="304560" cy="0"/>
                                  </a:xfrm>
                                  <a:prstGeom prst="line">
                                    <a:avLst/>
                                  </a:prstGeom>
                                  <a:ln w="255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56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914400" y="1981080"/>
                                    <a:ext cx="4343400" cy="1828800"/>
                                    <a:chOff x="914400" y="1981080"/>
                                    <a:chExt cx="4343400" cy="1828800"/>
                                  </a:xfrm>
                                </p:grpSpPr>
                                <p:sp>
                                  <p:nvSpPr>
                                    <p:cNvPr id="56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828800" y="3200040"/>
                                      <a:ext cx="609480" cy="609840"/>
                                    </a:xfrm>
                                    <a:prstGeom prst="ellipse">
                                      <a:avLst/>
                                    </a:prstGeom>
                                    <a:noFill/>
                                    <a:ln w="127080">
                                      <a:solidFill>
                                        <a:srgbClr val="ff99cc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0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Gwen G. </a:t>
                                      </a:r>
                                      <a:endParaRPr b="0" lang="en-US" sz="1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0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Hustler</a:t>
                                      </a:r>
                                      <a:endParaRPr b="0" lang="en-US" sz="1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648320" y="3200040"/>
                                      <a:ext cx="609480" cy="60984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127080">
                                      <a:solidFill>
                                        <a:srgbClr val="0000ff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Jason 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Homes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6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9520" y="3124080"/>
                                      <a:ext cx="609480" cy="60948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127080">
                                      <a:solidFill>
                                        <a:srgbClr val="0000ff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Max 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Fuller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7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914400" y="3200040"/>
                                      <a:ext cx="609480" cy="60984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127080">
                                      <a:solidFill>
                                        <a:srgbClr val="0000ff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Adam 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Hustler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7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57600" y="3200040"/>
                                      <a:ext cx="609480" cy="609840"/>
                                    </a:xfrm>
                                    <a:prstGeom prst="ellipse">
                                      <a:avLst/>
                                    </a:prstGeom>
                                    <a:noFill/>
                                    <a:ln w="127080">
                                      <a:solidFill>
                                        <a:srgbClr val="ff99cc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0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Andrea G. </a:t>
                                      </a:r>
                                      <a:endParaRPr b="0" lang="en-US" sz="1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0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Fuller</a:t>
                                      </a:r>
                                      <a:endParaRPr b="0" lang="en-US" sz="1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572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2209680" y="1981080"/>
                                      <a:ext cx="1600200" cy="1294560"/>
                                      <a:chOff x="2209680" y="1981080"/>
                                      <a:chExt cx="1600200" cy="1294560"/>
                                    </a:xfrm>
                                  </p:grpSpPr>
                                  <p:sp>
                                    <p:nvSpPr>
                                      <p:cNvPr id="573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209680" y="1981080"/>
                                        <a:ext cx="609840" cy="60948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127080">
                                        <a:solidFill>
                                          <a:srgbClr val="0000ff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wrap="none" lIns="90000" rIns="90000" tIns="46800" bIns="46800" anchor="ctr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en-US" sz="1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Comic Sans MS"/>
                                          </a:rPr>
                                          <a:t>Kenneth </a:t>
                                        </a:r>
                                        <a:endPara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en-US" sz="1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Comic Sans MS"/>
                                          </a:rPr>
                                          <a:t>Grange</a:t>
                                        </a:r>
                                        <a:endPara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574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3200400" y="1981080"/>
                                        <a:ext cx="609480" cy="609480"/>
                                      </a:xfrm>
                                      <a:prstGeom prst="ellipse">
                                        <a:avLst/>
                                      </a:prstGeom>
                                      <a:noFill/>
                                      <a:ln w="127080">
                                        <a:solidFill>
                                          <a:srgbClr val="ff99cc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wrap="none" lIns="90000" rIns="90000" tIns="46800" bIns="46800" anchor="ctr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en-US" sz="10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Comic Sans MS"/>
                                          </a:rPr>
                                          <a:t>Edith M. </a:t>
                                        </a:r>
                                        <a:endParaRPr b="0" lang="en-US" sz="10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en-US" sz="10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Comic Sans MS"/>
                                          </a:rPr>
                                          <a:t>Grange</a:t>
                                        </a:r>
                                        <a:endParaRPr b="0" lang="en-US" sz="10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575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2362320" y="2742840"/>
                                        <a:ext cx="1370880" cy="532800"/>
                                        <a:chOff x="2362320" y="2742840"/>
                                        <a:chExt cx="1370880" cy="532800"/>
                                      </a:xfrm>
                                    </p:grpSpPr>
                                    <p:sp>
                                      <p:nvSpPr>
                                        <p:cNvPr id="576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3047760" y="2742840"/>
                                          <a:ext cx="685440" cy="532800"/>
                                        </a:xfrm>
                                        <a:prstGeom prst="line">
                                          <a:avLst/>
                                        </a:prstGeom>
                                        <a:ln w="255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577" name=""/>
                                        <p:cNvSpPr/>
                                        <p:nvPr/>
                                      </p:nvSpPr>
                                      <p:spPr>
                                        <a:xfrm flipH="1">
                                          <a:off x="2362320" y="2742840"/>
                                          <a:ext cx="685440" cy="532800"/>
                                        </a:xfrm>
                                        <a:prstGeom prst="line">
                                          <a:avLst/>
                                        </a:prstGeom>
                                        <a:ln w="255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578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3048120" y="2209680"/>
                                        <a:ext cx="0" cy="533160"/>
                                      </a:xfrm>
                                      <a:prstGeom prst="line">
                                        <a:avLst/>
                                      </a:prstGeom>
                                      <a:ln w="255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579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895480" y="2209680"/>
                                        <a:ext cx="304920" cy="0"/>
                                      </a:xfrm>
                                      <a:prstGeom prst="line">
                                        <a:avLst/>
                                      </a:prstGeom>
                                      <a:ln w="255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</p:grpSp>
                            </p:grpSp>
                            <p:sp>
                              <p:nvSpPr>
                                <p:cNvPr id="580" name=""/>
                                <p:cNvSpPr/>
                                <p:nvPr/>
                              </p:nvSpPr>
                              <p:spPr>
                                <a:xfrm flipH="1">
                                  <a:off x="4724280" y="3276720"/>
                                  <a:ext cx="380880" cy="457200"/>
                                </a:xfrm>
                                <a:prstGeom prst="line">
                                  <a:avLst/>
                                </a:prstGeom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  <p:sp>
                      <p:nvSpPr>
                        <p:cNvPr id="581" name=""/>
                        <p:cNvSpPr/>
                        <p:nvPr/>
                      </p:nvSpPr>
                      <p:spPr>
                        <a:xfrm>
                          <a:off x="5105160" y="4267080"/>
                          <a:ext cx="0" cy="22860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82" name=""/>
                    <p:cNvGrpSpPr/>
                    <p:nvPr/>
                  </p:nvGrpSpPr>
                  <p:grpSpPr>
                    <a:xfrm>
                      <a:off x="4724280" y="1752480"/>
                      <a:ext cx="4191120" cy="3581280"/>
                      <a:chOff x="4724280" y="1752480"/>
                      <a:chExt cx="4191120" cy="3581280"/>
                    </a:xfrm>
                  </p:grpSpPr>
                  <p:sp>
                    <p:nvSpPr>
                      <p:cNvPr id="583" name=""/>
                      <p:cNvSpPr/>
                      <p:nvPr/>
                    </p:nvSpPr>
                    <p:spPr>
                      <a:xfrm>
                        <a:off x="5562720" y="4952880"/>
                        <a:ext cx="0" cy="38088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4" name=""/>
                      <p:cNvSpPr/>
                      <p:nvPr/>
                    </p:nvSpPr>
                    <p:spPr>
                      <a:xfrm>
                        <a:off x="7924680" y="4571640"/>
                        <a:ext cx="609840" cy="609840"/>
                      </a:xfrm>
                      <a:prstGeom prst="rect">
                        <a:avLst/>
                      </a:prstGeom>
                      <a:noFill/>
                      <a:ln w="1270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Hector 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Green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5" name=""/>
                      <p:cNvSpPr/>
                      <p:nvPr/>
                    </p:nvSpPr>
                    <p:spPr>
                      <a:xfrm>
                        <a:off x="6553080" y="4571640"/>
                        <a:ext cx="609840" cy="609840"/>
                      </a:xfrm>
                      <a:prstGeom prst="rect">
                        <a:avLst/>
                      </a:prstGeom>
                      <a:noFill/>
                      <a:ln w="1270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Robert 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May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6" name=""/>
                      <p:cNvSpPr/>
                      <p:nvPr/>
                    </p:nvSpPr>
                    <p:spPr>
                      <a:xfrm>
                        <a:off x="7543800" y="3352680"/>
                        <a:ext cx="609480" cy="609480"/>
                      </a:xfrm>
                      <a:prstGeom prst="rect">
                        <a:avLst/>
                      </a:prstGeom>
                      <a:noFill/>
                      <a:ln w="1270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Joe 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Green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"/>
                      <p:cNvSpPr/>
                      <p:nvPr/>
                    </p:nvSpPr>
                    <p:spPr>
                      <a:xfrm>
                        <a:off x="5562720" y="3276360"/>
                        <a:ext cx="609480" cy="609480"/>
                      </a:xfrm>
                      <a:prstGeom prst="rect">
                        <a:avLst/>
                      </a:prstGeom>
                      <a:noFill/>
                      <a:ln w="1270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Philip 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May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8" name=""/>
                      <p:cNvSpPr/>
                      <p:nvPr/>
                    </p:nvSpPr>
                    <p:spPr>
                      <a:xfrm>
                        <a:off x="4724280" y="4571640"/>
                        <a:ext cx="609840" cy="609840"/>
                      </a:xfrm>
                      <a:prstGeom prst="rect">
                        <a:avLst/>
                      </a:prstGeom>
                      <a:noFill/>
                      <a:ln w="1270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9" name=""/>
                      <p:cNvSpPr/>
                      <p:nvPr/>
                    </p:nvSpPr>
                    <p:spPr>
                      <a:xfrm>
                        <a:off x="8305920" y="3352680"/>
                        <a:ext cx="609480" cy="609480"/>
                      </a:xfrm>
                      <a:prstGeom prst="ellipse">
                        <a:avLst/>
                      </a:prstGeom>
                      <a:noFill/>
                      <a:ln w="127080">
                        <a:solidFill>
                          <a:srgbClr val="ff99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Heather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A. Green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0" name=""/>
                      <p:cNvSpPr/>
                      <p:nvPr/>
                    </p:nvSpPr>
                    <p:spPr>
                      <a:xfrm>
                        <a:off x="5715000" y="4571640"/>
                        <a:ext cx="609480" cy="609840"/>
                      </a:xfrm>
                      <a:prstGeom prst="ellipse">
                        <a:avLst/>
                      </a:prstGeom>
                      <a:noFill/>
                      <a:ln w="127080">
                        <a:solidFill>
                          <a:srgbClr val="ff99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Gertrude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 </a:t>
                        </a: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M. 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Fuller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1" name=""/>
                      <p:cNvSpPr/>
                      <p:nvPr/>
                    </p:nvSpPr>
                    <p:spPr>
                      <a:xfrm>
                        <a:off x="6629400" y="3276360"/>
                        <a:ext cx="609480" cy="609480"/>
                      </a:xfrm>
                      <a:prstGeom prst="ellipse">
                        <a:avLst/>
                      </a:prstGeom>
                      <a:noFill/>
                      <a:ln w="127080">
                        <a:solidFill>
                          <a:srgbClr val="ff99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Morgan 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A. Mays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2" name=""/>
                      <p:cNvSpPr/>
                      <p:nvPr/>
                    </p:nvSpPr>
                    <p:spPr>
                      <a:xfrm>
                        <a:off x="5410080" y="4876560"/>
                        <a:ext cx="30492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3" name=""/>
                      <p:cNvSpPr/>
                      <p:nvPr/>
                    </p:nvSpPr>
                    <p:spPr>
                      <a:xfrm>
                        <a:off x="8229600" y="3581280"/>
                        <a:ext cx="0" cy="91440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"/>
                      <p:cNvSpPr/>
                      <p:nvPr/>
                    </p:nvSpPr>
                    <p:spPr>
                      <a:xfrm>
                        <a:off x="6019920" y="4190760"/>
                        <a:ext cx="0" cy="30492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5" name=""/>
                      <p:cNvSpPr/>
                      <p:nvPr/>
                    </p:nvSpPr>
                    <p:spPr>
                      <a:xfrm>
                        <a:off x="6400800" y="3581280"/>
                        <a:ext cx="0" cy="60948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6" name=""/>
                      <p:cNvSpPr/>
                      <p:nvPr/>
                    </p:nvSpPr>
                    <p:spPr>
                      <a:xfrm>
                        <a:off x="6781680" y="4190760"/>
                        <a:ext cx="0" cy="30492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7" name=""/>
                      <p:cNvSpPr/>
                      <p:nvPr/>
                    </p:nvSpPr>
                    <p:spPr>
                      <a:xfrm>
                        <a:off x="6019920" y="4190760"/>
                        <a:ext cx="38088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8" name=""/>
                      <p:cNvSpPr/>
                      <p:nvPr/>
                    </p:nvSpPr>
                    <p:spPr>
                      <a:xfrm>
                        <a:off x="6400800" y="4190760"/>
                        <a:ext cx="38088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9" name=""/>
                      <p:cNvSpPr/>
                      <p:nvPr/>
                    </p:nvSpPr>
                    <p:spPr>
                      <a:xfrm>
                        <a:off x="6172200" y="3581280"/>
                        <a:ext cx="45720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600" name=""/>
                      <p:cNvGrpSpPr/>
                      <p:nvPr/>
                    </p:nvGrpSpPr>
                    <p:grpSpPr>
                      <a:xfrm>
                        <a:off x="6934320" y="1752480"/>
                        <a:ext cx="1676160" cy="1523880"/>
                        <a:chOff x="6934320" y="1752480"/>
                        <a:chExt cx="1676160" cy="1523880"/>
                      </a:xfrm>
                    </p:grpSpPr>
                    <p:sp>
                      <p:nvSpPr>
                        <p:cNvPr id="601" name=""/>
                        <p:cNvSpPr/>
                        <p:nvPr/>
                      </p:nvSpPr>
                      <p:spPr>
                        <a:xfrm>
                          <a:off x="8001000" y="1752480"/>
                          <a:ext cx="609480" cy="609480"/>
                        </a:xfrm>
                        <a:prstGeom prst="ellipse">
                          <a:avLst/>
                        </a:prstGeom>
                        <a:noFill/>
                        <a:ln w="127080">
                          <a:solidFill>
                            <a:srgbClr val="ff99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0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Susan Z. </a:t>
                          </a:r>
                          <a:endParaRPr b="0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0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Anne</a:t>
                          </a:r>
                          <a:endParaRPr b="0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2" name=""/>
                        <p:cNvSpPr/>
                        <p:nvPr/>
                      </p:nvSpPr>
                      <p:spPr>
                        <a:xfrm>
                          <a:off x="7010280" y="1752480"/>
                          <a:ext cx="609840" cy="609480"/>
                        </a:xfrm>
                        <a:prstGeom prst="rect">
                          <a:avLst/>
                        </a:prstGeom>
                        <a:noFill/>
                        <a:ln w="12708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Brian 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Anne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3" name=""/>
                        <p:cNvSpPr/>
                        <p:nvPr/>
                      </p:nvSpPr>
                      <p:spPr>
                        <a:xfrm>
                          <a:off x="7696080" y="2057040"/>
                          <a:ext cx="30492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4" name=""/>
                        <p:cNvSpPr/>
                        <p:nvPr/>
                      </p:nvSpPr>
                      <p:spPr>
                        <a:xfrm>
                          <a:off x="6934320" y="2895480"/>
                          <a:ext cx="30456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5" name=""/>
                        <p:cNvSpPr/>
                        <p:nvPr/>
                      </p:nvSpPr>
                      <p:spPr>
                        <a:xfrm>
                          <a:off x="7772400" y="2057040"/>
                          <a:ext cx="0" cy="83844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6" name=""/>
                        <p:cNvSpPr/>
                        <p:nvPr/>
                      </p:nvSpPr>
                      <p:spPr>
                        <a:xfrm>
                          <a:off x="8610480" y="2819160"/>
                          <a:ext cx="0" cy="45720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7" name=""/>
                        <p:cNvSpPr/>
                        <p:nvPr/>
                      </p:nvSpPr>
                      <p:spPr>
                        <a:xfrm>
                          <a:off x="6934320" y="2895480"/>
                          <a:ext cx="0" cy="30456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8" name=""/>
                        <p:cNvSpPr/>
                        <p:nvPr/>
                      </p:nvSpPr>
                      <p:spPr>
                        <a:xfrm>
                          <a:off x="7238880" y="2895480"/>
                          <a:ext cx="137160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609" name=""/>
                      <p:cNvSpPr/>
                      <p:nvPr/>
                    </p:nvSpPr>
                    <p:spPr>
                      <a:xfrm>
                        <a:off x="8001000" y="3581280"/>
                        <a:ext cx="30492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10" name=""/>
                  <p:cNvGrpSpPr/>
                  <p:nvPr/>
                </p:nvGrpSpPr>
                <p:grpSpPr>
                  <a:xfrm>
                    <a:off x="685800" y="1523880"/>
                    <a:ext cx="8305920" cy="3980160"/>
                    <a:chOff x="685800" y="1523880"/>
                    <a:chExt cx="8305920" cy="3980160"/>
                  </a:xfrm>
                </p:grpSpPr>
                <p:sp>
                  <p:nvSpPr>
                    <p:cNvPr id="611" name=""/>
                    <p:cNvSpPr/>
                    <p:nvPr/>
                  </p:nvSpPr>
                  <p:spPr>
                    <a:xfrm>
                      <a:off x="1600200" y="2971800"/>
                      <a:ext cx="9907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4/1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"/>
                    <p:cNvSpPr/>
                    <p:nvPr/>
                  </p:nvSpPr>
                  <p:spPr>
                    <a:xfrm>
                      <a:off x="2971800" y="518148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7/19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>
                      <a:off x="6019920" y="2971800"/>
                      <a:ext cx="6858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" name=""/>
                    <p:cNvSpPr/>
                    <p:nvPr/>
                  </p:nvSpPr>
                  <p:spPr>
                    <a:xfrm>
                      <a:off x="8229600" y="403848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4/1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"/>
                    <p:cNvSpPr/>
                    <p:nvPr/>
                  </p:nvSpPr>
                  <p:spPr>
                    <a:xfrm>
                      <a:off x="685800" y="3886200"/>
                      <a:ext cx="106704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30/1927-4/8/19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>
                      <a:off x="1905120" y="525780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4/19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7391520" y="403848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3/19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>
                      <a:off x="2133720" y="2666880"/>
                      <a:ext cx="83808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1/1900 - 19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2819520" y="380988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7/19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"/>
                    <p:cNvSpPr/>
                    <p:nvPr/>
                  </p:nvSpPr>
                  <p:spPr>
                    <a:xfrm>
                      <a:off x="1219320" y="4495680"/>
                      <a:ext cx="83808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18/19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"/>
                    <p:cNvSpPr/>
                    <p:nvPr/>
                  </p:nvSpPr>
                  <p:spPr>
                    <a:xfrm>
                      <a:off x="7925040" y="3032280"/>
                      <a:ext cx="6858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/19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>
                      <a:off x="6934320" y="2438280"/>
                      <a:ext cx="68580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/1917-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>
                      <a:off x="2057400" y="3733920"/>
                      <a:ext cx="6858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/19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3733920" y="3809880"/>
                      <a:ext cx="83808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7/193697-2/5/19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>
                      <a:off x="6553440" y="5257800"/>
                      <a:ext cx="83808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2/19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2819520" y="181296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7/19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7543800" y="1523880"/>
                      <a:ext cx="1219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/19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7925040" y="2438280"/>
                      <a:ext cx="83808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15/1917- 2/5/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9" name=""/>
                    <p:cNvSpPr/>
                    <p:nvPr/>
                  </p:nvSpPr>
                  <p:spPr>
                    <a:xfrm>
                      <a:off x="5257800" y="4403880"/>
                      <a:ext cx="6858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7/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"/>
                    <p:cNvSpPr/>
                    <p:nvPr/>
                  </p:nvSpPr>
                  <p:spPr>
                    <a:xfrm>
                      <a:off x="3200400" y="2666880"/>
                      <a:ext cx="83844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2/1910-1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>
                      <a:off x="4648320" y="525780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3/19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2" name=""/>
                    <p:cNvSpPr/>
                    <p:nvPr/>
                  </p:nvSpPr>
                  <p:spPr>
                    <a:xfrm>
                      <a:off x="5715000" y="525780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4/19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3" name=""/>
                    <p:cNvSpPr/>
                    <p:nvPr/>
                  </p:nvSpPr>
                  <p:spPr>
                    <a:xfrm>
                      <a:off x="2438640" y="4419720"/>
                      <a:ext cx="6858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5/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>
                      <a:off x="4114800" y="2895480"/>
                      <a:ext cx="6858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7/19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" name=""/>
                    <p:cNvSpPr/>
                    <p:nvPr/>
                  </p:nvSpPr>
                  <p:spPr>
                    <a:xfrm>
                      <a:off x="4648320" y="3809880"/>
                      <a:ext cx="83808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6/1920-5/25/195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"/>
                    <p:cNvSpPr/>
                    <p:nvPr/>
                  </p:nvSpPr>
                  <p:spPr>
                    <a:xfrm>
                      <a:off x="7925040" y="5257800"/>
                      <a:ext cx="6858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/1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>
                      <a:off x="5410440" y="3962520"/>
                      <a:ext cx="83808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5/1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"/>
                    <p:cNvSpPr/>
                    <p:nvPr/>
                  </p:nvSpPr>
                  <p:spPr>
                    <a:xfrm>
                      <a:off x="6629400" y="387036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8/1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639" name=""/>
            <p:cNvSpPr/>
            <p:nvPr/>
          </p:nvSpPr>
          <p:spPr>
            <a:xfrm>
              <a:off x="3886200" y="2057400"/>
              <a:ext cx="990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shkenazi J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05920" y="144792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nadi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5257800" y="5451480"/>
            <a:ext cx="66348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10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Fax"/>
              </a:rPr>
              <a:t>Generations are identified and individuals can be found with a number system. </a:t>
            </a:r>
            <a:endParaRPr b="0" lang="en-US" sz="2100" spc="-1" strike="noStrike">
              <a:solidFill>
                <a:srgbClr val="000000"/>
              </a:solidFill>
              <a:latin typeface="Lucida Fax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685800" y="1447920"/>
            <a:ext cx="8458200" cy="4056120"/>
            <a:chOff x="685800" y="1447920"/>
            <a:chExt cx="8458200" cy="4056120"/>
          </a:xfrm>
        </p:grpSpPr>
        <p:sp>
          <p:nvSpPr>
            <p:cNvPr id="645" name=""/>
            <p:cNvSpPr/>
            <p:nvPr/>
          </p:nvSpPr>
          <p:spPr>
            <a:xfrm>
              <a:off x="1371600" y="2057400"/>
              <a:ext cx="990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shkenazi J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172200" y="190512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nadi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685800" y="1523880"/>
              <a:ext cx="8305920" cy="3980160"/>
              <a:chOff x="685800" y="1523880"/>
              <a:chExt cx="8305920" cy="3980160"/>
            </a:xfrm>
          </p:grpSpPr>
          <p:sp>
            <p:nvSpPr>
              <p:cNvPr id="648" name=""/>
              <p:cNvSpPr/>
              <p:nvPr/>
            </p:nvSpPr>
            <p:spPr>
              <a:xfrm rot="10800000">
                <a:off x="3657240" y="3276720"/>
                <a:ext cx="304920" cy="457200"/>
              </a:xfrm>
              <a:prstGeom prst="flowChartDelay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685800" y="1523880"/>
                <a:ext cx="8305920" cy="3980160"/>
                <a:chOff x="685800" y="1523880"/>
                <a:chExt cx="8305920" cy="398016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2971800" y="4419720"/>
                  <a:ext cx="609840" cy="609480"/>
                </a:xfrm>
                <a:prstGeom prst="rect">
                  <a:avLst/>
                </a:prstGeom>
                <a:solidFill>
                  <a:srgbClr val="33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2210040" y="1981080"/>
                  <a:ext cx="228600" cy="609840"/>
                </a:xfrm>
                <a:prstGeom prst="rect">
                  <a:avLst/>
                </a:prstGeom>
                <a:solidFill>
                  <a:srgbClr val="33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895840" y="3048120"/>
                  <a:ext cx="228600" cy="609480"/>
                </a:xfrm>
                <a:prstGeom prst="rect">
                  <a:avLst/>
                </a:prstGeom>
                <a:solidFill>
                  <a:srgbClr val="33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3" name=""/>
                <p:cNvGrpSpPr/>
                <p:nvPr/>
              </p:nvGrpSpPr>
              <p:grpSpPr>
                <a:xfrm>
                  <a:off x="685800" y="1523880"/>
                  <a:ext cx="8305920" cy="3980160"/>
                  <a:chOff x="685800" y="1523880"/>
                  <a:chExt cx="8305920" cy="3980160"/>
                </a:xfrm>
              </p:grpSpPr>
              <p:grpSp>
                <p:nvGrpSpPr>
                  <p:cNvPr id="654" name=""/>
                  <p:cNvGrpSpPr/>
                  <p:nvPr/>
                </p:nvGrpSpPr>
                <p:grpSpPr>
                  <a:xfrm>
                    <a:off x="914400" y="1752480"/>
                    <a:ext cx="8001000" cy="3581280"/>
                    <a:chOff x="914400" y="1752480"/>
                    <a:chExt cx="8001000" cy="3581280"/>
                  </a:xfrm>
                </p:grpSpPr>
                <p:grpSp>
                  <p:nvGrpSpPr>
                    <p:cNvPr id="655" name=""/>
                    <p:cNvGrpSpPr/>
                    <p:nvPr/>
                  </p:nvGrpSpPr>
                  <p:grpSpPr>
                    <a:xfrm>
                      <a:off x="914400" y="1981080"/>
                      <a:ext cx="4419360" cy="3200400"/>
                      <a:chOff x="914400" y="1981080"/>
                      <a:chExt cx="4419360" cy="3200400"/>
                    </a:xfrm>
                  </p:grpSpPr>
                  <p:sp>
                    <p:nvSpPr>
                      <p:cNvPr id="656" name=""/>
                      <p:cNvSpPr/>
                      <p:nvPr/>
                    </p:nvSpPr>
                    <p:spPr>
                      <a:xfrm>
                        <a:off x="3276360" y="4267080"/>
                        <a:ext cx="30492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657" name=""/>
                      <p:cNvGrpSpPr/>
                      <p:nvPr/>
                    </p:nvGrpSpPr>
                    <p:grpSpPr>
                      <a:xfrm>
                        <a:off x="914400" y="1981080"/>
                        <a:ext cx="4419360" cy="3200400"/>
                        <a:chOff x="914400" y="1981080"/>
                        <a:chExt cx="4419360" cy="3200400"/>
                      </a:xfrm>
                    </p:grpSpPr>
                    <p:sp>
                      <p:nvSpPr>
                        <p:cNvPr id="658" name=""/>
                        <p:cNvSpPr/>
                        <p:nvPr/>
                      </p:nvSpPr>
                      <p:spPr>
                        <a:xfrm>
                          <a:off x="3276360" y="4191120"/>
                          <a:ext cx="0" cy="30456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659" name=""/>
                        <p:cNvGrpSpPr/>
                        <p:nvPr/>
                      </p:nvGrpSpPr>
                      <p:grpSpPr>
                        <a:xfrm>
                          <a:off x="914400" y="1981080"/>
                          <a:ext cx="4419360" cy="3200400"/>
                          <a:chOff x="914400" y="1981080"/>
                          <a:chExt cx="4419360" cy="3200400"/>
                        </a:xfrm>
                      </p:grpSpPr>
                      <p:sp>
                        <p:nvSpPr>
                          <p:cNvPr id="660" name=""/>
                          <p:cNvSpPr/>
                          <p:nvPr/>
                        </p:nvSpPr>
                        <p:spPr>
                          <a:xfrm>
                            <a:off x="1752480" y="3429000"/>
                            <a:ext cx="0" cy="30492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61" name=""/>
                          <p:cNvSpPr/>
                          <p:nvPr/>
                        </p:nvSpPr>
                        <p:spPr>
                          <a:xfrm>
                            <a:off x="1600200" y="3429000"/>
                            <a:ext cx="304560" cy="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62" name=""/>
                          <p:cNvSpPr/>
                          <p:nvPr/>
                        </p:nvSpPr>
                        <p:spPr>
                          <a:xfrm>
                            <a:off x="4267080" y="3429000"/>
                            <a:ext cx="304920" cy="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663" name=""/>
                          <p:cNvGrpSpPr/>
                          <p:nvPr/>
                        </p:nvGrpSpPr>
                        <p:grpSpPr>
                          <a:xfrm>
                            <a:off x="914400" y="1981080"/>
                            <a:ext cx="4419360" cy="3200400"/>
                            <a:chOff x="914400" y="1981080"/>
                            <a:chExt cx="4419360" cy="3200400"/>
                          </a:xfrm>
                        </p:grpSpPr>
                        <p:sp>
                          <p:nvSpPr>
                            <p:cNvPr id="664" name=""/>
                            <p:cNvSpPr/>
                            <p:nvPr/>
                          </p:nvSpPr>
                          <p:spPr>
                            <a:xfrm>
                              <a:off x="4724280" y="4572000"/>
                              <a:ext cx="609480" cy="609480"/>
                            </a:xfrm>
                            <a:prstGeom prst="rect">
                              <a:avLst/>
                            </a:prstGeom>
                            <a:noFill/>
                            <a:ln w="127080">
                              <a:solidFill>
                                <a:srgbClr val="0000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James 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Fuller 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665" name=""/>
                            <p:cNvGrpSpPr/>
                            <p:nvPr/>
                          </p:nvGrpSpPr>
                          <p:grpSpPr>
                            <a:xfrm>
                              <a:off x="914400" y="1981080"/>
                              <a:ext cx="4343400" cy="3200400"/>
                              <a:chOff x="914400" y="1981080"/>
                              <a:chExt cx="4343400" cy="3200400"/>
                            </a:xfrm>
                          </p:grpSpPr>
                          <p:sp>
                            <p:nvSpPr>
                              <p:cNvPr id="666" name=""/>
                              <p:cNvSpPr/>
                              <p:nvPr/>
                            </p:nvSpPr>
                            <p:spPr>
                              <a:xfrm>
                                <a:off x="3581280" y="4267080"/>
                                <a:ext cx="1523880" cy="0"/>
                              </a:xfrm>
                              <a:prstGeom prst="line">
                                <a:avLst/>
                              </a:prstGeom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7" name=""/>
                              <p:cNvSpPr/>
                              <p:nvPr/>
                            </p:nvSpPr>
                            <p:spPr>
                              <a:xfrm>
                                <a:off x="3581280" y="3505320"/>
                                <a:ext cx="0" cy="761760"/>
                              </a:xfrm>
                              <a:prstGeom prst="line">
                                <a:avLst/>
                              </a:prstGeom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8" name=""/>
                              <p:cNvSpPr/>
                              <p:nvPr/>
                            </p:nvSpPr>
                            <p:spPr>
                              <a:xfrm>
                                <a:off x="2971800" y="4495680"/>
                                <a:ext cx="609480" cy="609840"/>
                              </a:xfrm>
                              <a:prstGeom prst="rect">
                                <a:avLst/>
                              </a:prstGeom>
                              <a:noFill/>
                              <a:ln w="127080">
                                <a:solidFill>
                                  <a:srgbClr val="0000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John 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Fuller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9" name=""/>
                              <p:cNvSpPr/>
                              <p:nvPr/>
                            </p:nvSpPr>
                            <p:spPr>
                              <a:xfrm>
                                <a:off x="1447560" y="3886200"/>
                                <a:ext cx="609840" cy="609480"/>
                              </a:xfrm>
                              <a:prstGeom prst="rect">
                                <a:avLst/>
                              </a:prstGeom>
                              <a:noFill/>
                              <a:ln w="127080">
                                <a:solidFill>
                                  <a:srgbClr val="0000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Adam 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Hustler, 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Jr.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0" name=""/>
                              <p:cNvSpPr/>
                              <p:nvPr/>
                            </p:nvSpPr>
                            <p:spPr>
                              <a:xfrm>
                                <a:off x="2057400" y="4572000"/>
                                <a:ext cx="609480" cy="609480"/>
                              </a:xfrm>
                              <a:prstGeom prst="ellipse">
                                <a:avLst/>
                              </a:prstGeom>
                              <a:noFill/>
                              <a:ln w="127080">
                                <a:solidFill>
                                  <a:srgbClr val="ff99cc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Sarah 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Best 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Fuller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1" name=""/>
                              <p:cNvSpPr/>
                              <p:nvPr/>
                            </p:nvSpPr>
                            <p:spPr>
                              <a:xfrm>
                                <a:off x="2666880" y="4876920"/>
                                <a:ext cx="304920" cy="0"/>
                              </a:xfrm>
                              <a:prstGeom prst="line">
                                <a:avLst/>
                              </a:prstGeom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672" name=""/>
                              <p:cNvGrpSpPr/>
                              <p:nvPr/>
                            </p:nvGrpSpPr>
                            <p:grpSpPr>
                              <a:xfrm>
                                <a:off x="914400" y="1981080"/>
                                <a:ext cx="4343400" cy="1828800"/>
                                <a:chOff x="914400" y="1981080"/>
                                <a:chExt cx="4343400" cy="1828800"/>
                              </a:xfrm>
                            </p:grpSpPr>
                            <p:grpSp>
                              <p:nvGrpSpPr>
                                <p:cNvPr id="673" name=""/>
                                <p:cNvGrpSpPr/>
                                <p:nvPr/>
                              </p:nvGrpSpPr>
                              <p:grpSpPr>
                                <a:xfrm>
                                  <a:off x="914400" y="1981080"/>
                                  <a:ext cx="4343400" cy="1828800"/>
                                  <a:chOff x="914400" y="1981080"/>
                                  <a:chExt cx="4343400" cy="1828800"/>
                                </a:xfrm>
                              </p:grpSpPr>
                              <p:sp>
                                <p:nvSpPr>
                                  <p:cNvPr id="674" name=""/>
                                  <p:cNvSpPr/>
                                  <p:nvPr/>
                                </p:nvSpPr>
                                <p:spPr>
                                  <a:xfrm>
                                    <a:off x="3429000" y="3505320"/>
                                    <a:ext cx="304560" cy="0"/>
                                  </a:xfrm>
                                  <a:prstGeom prst="line">
                                    <a:avLst/>
                                  </a:prstGeom>
                                  <a:ln w="255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67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914400" y="1981080"/>
                                    <a:ext cx="4343400" cy="1828800"/>
                                    <a:chOff x="914400" y="1981080"/>
                                    <a:chExt cx="4343400" cy="1828800"/>
                                  </a:xfrm>
                                </p:grpSpPr>
                                <p:sp>
                                  <p:nvSpPr>
                                    <p:cNvPr id="67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828800" y="3200040"/>
                                      <a:ext cx="609480" cy="609840"/>
                                    </a:xfrm>
                                    <a:prstGeom prst="ellipse">
                                      <a:avLst/>
                                    </a:prstGeom>
                                    <a:noFill/>
                                    <a:ln w="127080">
                                      <a:solidFill>
                                        <a:srgbClr val="ff99cc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0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Gwen G. </a:t>
                                      </a:r>
                                      <a:endParaRPr b="0" lang="en-US" sz="1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0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Hustler</a:t>
                                      </a:r>
                                      <a:endParaRPr b="0" lang="en-US" sz="1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7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648320" y="3200040"/>
                                      <a:ext cx="609480" cy="60984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127080">
                                      <a:solidFill>
                                        <a:srgbClr val="0000ff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Jason 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Homes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7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19520" y="3124080"/>
                                      <a:ext cx="609480" cy="60948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127080">
                                      <a:solidFill>
                                        <a:srgbClr val="0000ff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Max 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Fuller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7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914400" y="3200040"/>
                                      <a:ext cx="609480" cy="60984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127080">
                                      <a:solidFill>
                                        <a:srgbClr val="0000ff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Adam 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Hustler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80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657600" y="3200040"/>
                                      <a:ext cx="609480" cy="609840"/>
                                    </a:xfrm>
                                    <a:prstGeom prst="ellipse">
                                      <a:avLst/>
                                    </a:prstGeom>
                                    <a:noFill/>
                                    <a:ln w="127080">
                                      <a:solidFill>
                                        <a:srgbClr val="ff99cc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0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Andrea G. </a:t>
                                      </a:r>
                                      <a:endParaRPr b="0" lang="en-US" sz="1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0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Fuller</a:t>
                                      </a:r>
                                      <a:endParaRPr b="0" lang="en-US" sz="1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681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2209680" y="1981080"/>
                                      <a:ext cx="1600200" cy="1294560"/>
                                      <a:chOff x="2209680" y="1981080"/>
                                      <a:chExt cx="1600200" cy="1294560"/>
                                    </a:xfrm>
                                  </p:grpSpPr>
                                  <p:sp>
                                    <p:nvSpPr>
                                      <p:cNvPr id="682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209680" y="1981080"/>
                                        <a:ext cx="609840" cy="60948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127080">
                                        <a:solidFill>
                                          <a:srgbClr val="0000ff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wrap="none" lIns="90000" rIns="90000" tIns="46800" bIns="46800" anchor="ctr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en-US" sz="1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Comic Sans MS"/>
                                          </a:rPr>
                                          <a:t>Kenneth </a:t>
                                        </a:r>
                                        <a:endPara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en-US" sz="12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Comic Sans MS"/>
                                          </a:rPr>
                                          <a:t>Grange</a:t>
                                        </a:r>
                                        <a:endPara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683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3200400" y="1981080"/>
                                        <a:ext cx="609480" cy="609480"/>
                                      </a:xfrm>
                                      <a:prstGeom prst="ellipse">
                                        <a:avLst/>
                                      </a:prstGeom>
                                      <a:noFill/>
                                      <a:ln w="127080">
                                        <a:solidFill>
                                          <a:srgbClr val="ff99cc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wrap="none" lIns="90000" rIns="90000" tIns="46800" bIns="46800" anchor="ctr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en-US" sz="10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Comic Sans MS"/>
                                          </a:rPr>
                                          <a:t>Edith M. </a:t>
                                        </a:r>
                                        <a:endParaRPr b="0" lang="en-US" sz="10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en-US" sz="10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Comic Sans MS"/>
                                          </a:rPr>
                                          <a:t>Grange</a:t>
                                        </a:r>
                                        <a:endParaRPr b="0" lang="en-US" sz="10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684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2362320" y="2742840"/>
                                        <a:ext cx="1370880" cy="532800"/>
                                        <a:chOff x="2362320" y="2742840"/>
                                        <a:chExt cx="1370880" cy="532800"/>
                                      </a:xfrm>
                                    </p:grpSpPr>
                                    <p:sp>
                                      <p:nvSpPr>
                                        <p:cNvPr id="685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3047760" y="2742840"/>
                                          <a:ext cx="685440" cy="532800"/>
                                        </a:xfrm>
                                        <a:prstGeom prst="line">
                                          <a:avLst/>
                                        </a:prstGeom>
                                        <a:ln w="255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686" name=""/>
                                        <p:cNvSpPr/>
                                        <p:nvPr/>
                                      </p:nvSpPr>
                                      <p:spPr>
                                        <a:xfrm flipH="1">
                                          <a:off x="2362320" y="2742840"/>
                                          <a:ext cx="685440" cy="532800"/>
                                        </a:xfrm>
                                        <a:prstGeom prst="line">
                                          <a:avLst/>
                                        </a:prstGeom>
                                        <a:ln w="255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687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3048120" y="2209680"/>
                                        <a:ext cx="0" cy="533160"/>
                                      </a:xfrm>
                                      <a:prstGeom prst="line">
                                        <a:avLst/>
                                      </a:prstGeom>
                                      <a:ln w="255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688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895480" y="2209680"/>
                                        <a:ext cx="304920" cy="0"/>
                                      </a:xfrm>
                                      <a:prstGeom prst="line">
                                        <a:avLst/>
                                      </a:prstGeom>
                                      <a:ln w="255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</p:grpSp>
                            </p:grpSp>
                            <p:sp>
                              <p:nvSpPr>
                                <p:cNvPr id="689" name=""/>
                                <p:cNvSpPr/>
                                <p:nvPr/>
                              </p:nvSpPr>
                              <p:spPr>
                                <a:xfrm flipH="1">
                                  <a:off x="4724280" y="3276720"/>
                                  <a:ext cx="380880" cy="457200"/>
                                </a:xfrm>
                                <a:prstGeom prst="line">
                                  <a:avLst/>
                                </a:prstGeom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  <p:sp>
                      <p:nvSpPr>
                        <p:cNvPr id="690" name=""/>
                        <p:cNvSpPr/>
                        <p:nvPr/>
                      </p:nvSpPr>
                      <p:spPr>
                        <a:xfrm>
                          <a:off x="5105160" y="4267080"/>
                          <a:ext cx="0" cy="22860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91" name=""/>
                    <p:cNvGrpSpPr/>
                    <p:nvPr/>
                  </p:nvGrpSpPr>
                  <p:grpSpPr>
                    <a:xfrm>
                      <a:off x="4724280" y="1752480"/>
                      <a:ext cx="4191120" cy="3581280"/>
                      <a:chOff x="4724280" y="1752480"/>
                      <a:chExt cx="4191120" cy="3581280"/>
                    </a:xfrm>
                  </p:grpSpPr>
                  <p:sp>
                    <p:nvSpPr>
                      <p:cNvPr id="692" name=""/>
                      <p:cNvSpPr/>
                      <p:nvPr/>
                    </p:nvSpPr>
                    <p:spPr>
                      <a:xfrm>
                        <a:off x="5562720" y="4952880"/>
                        <a:ext cx="0" cy="38088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3" name=""/>
                      <p:cNvSpPr/>
                      <p:nvPr/>
                    </p:nvSpPr>
                    <p:spPr>
                      <a:xfrm>
                        <a:off x="7924680" y="4571640"/>
                        <a:ext cx="609840" cy="609840"/>
                      </a:xfrm>
                      <a:prstGeom prst="rect">
                        <a:avLst/>
                      </a:prstGeom>
                      <a:noFill/>
                      <a:ln w="1270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Hector 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Green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4" name=""/>
                      <p:cNvSpPr/>
                      <p:nvPr/>
                    </p:nvSpPr>
                    <p:spPr>
                      <a:xfrm>
                        <a:off x="6553080" y="4571640"/>
                        <a:ext cx="609840" cy="609840"/>
                      </a:xfrm>
                      <a:prstGeom prst="rect">
                        <a:avLst/>
                      </a:prstGeom>
                      <a:noFill/>
                      <a:ln w="1270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Robert 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May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5" name=""/>
                      <p:cNvSpPr/>
                      <p:nvPr/>
                    </p:nvSpPr>
                    <p:spPr>
                      <a:xfrm>
                        <a:off x="7543800" y="3352680"/>
                        <a:ext cx="609480" cy="609480"/>
                      </a:xfrm>
                      <a:prstGeom prst="rect">
                        <a:avLst/>
                      </a:prstGeom>
                      <a:noFill/>
                      <a:ln w="1270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Joe 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Green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6" name=""/>
                      <p:cNvSpPr/>
                      <p:nvPr/>
                    </p:nvSpPr>
                    <p:spPr>
                      <a:xfrm>
                        <a:off x="5562720" y="3276360"/>
                        <a:ext cx="609480" cy="609480"/>
                      </a:xfrm>
                      <a:prstGeom prst="rect">
                        <a:avLst/>
                      </a:prstGeom>
                      <a:noFill/>
                      <a:ln w="1270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Philip 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May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7" name=""/>
                      <p:cNvSpPr/>
                      <p:nvPr/>
                    </p:nvSpPr>
                    <p:spPr>
                      <a:xfrm>
                        <a:off x="4724280" y="4571640"/>
                        <a:ext cx="609840" cy="609840"/>
                      </a:xfrm>
                      <a:prstGeom prst="rect">
                        <a:avLst/>
                      </a:prstGeom>
                      <a:noFill/>
                      <a:ln w="1270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8" name=""/>
                      <p:cNvSpPr/>
                      <p:nvPr/>
                    </p:nvSpPr>
                    <p:spPr>
                      <a:xfrm>
                        <a:off x="8305920" y="3352680"/>
                        <a:ext cx="609480" cy="609480"/>
                      </a:xfrm>
                      <a:prstGeom prst="ellipse">
                        <a:avLst/>
                      </a:prstGeom>
                      <a:noFill/>
                      <a:ln w="127080">
                        <a:solidFill>
                          <a:srgbClr val="ff99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Heather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A. Green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9" name=""/>
                      <p:cNvSpPr/>
                      <p:nvPr/>
                    </p:nvSpPr>
                    <p:spPr>
                      <a:xfrm>
                        <a:off x="5715000" y="4571640"/>
                        <a:ext cx="609480" cy="609840"/>
                      </a:xfrm>
                      <a:prstGeom prst="ellipse">
                        <a:avLst/>
                      </a:prstGeom>
                      <a:noFill/>
                      <a:ln w="127080">
                        <a:solidFill>
                          <a:srgbClr val="ff99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Gertrude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 </a:t>
                        </a: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M. 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Fuller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0" name=""/>
                      <p:cNvSpPr/>
                      <p:nvPr/>
                    </p:nvSpPr>
                    <p:spPr>
                      <a:xfrm>
                        <a:off x="6629400" y="3276360"/>
                        <a:ext cx="609480" cy="609480"/>
                      </a:xfrm>
                      <a:prstGeom prst="ellipse">
                        <a:avLst/>
                      </a:prstGeom>
                      <a:noFill/>
                      <a:ln w="127080">
                        <a:solidFill>
                          <a:srgbClr val="ff99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Morgan 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A. Mays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1" name=""/>
                      <p:cNvSpPr/>
                      <p:nvPr/>
                    </p:nvSpPr>
                    <p:spPr>
                      <a:xfrm>
                        <a:off x="5410080" y="4876560"/>
                        <a:ext cx="30492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2" name=""/>
                      <p:cNvSpPr/>
                      <p:nvPr/>
                    </p:nvSpPr>
                    <p:spPr>
                      <a:xfrm>
                        <a:off x="8229600" y="3581280"/>
                        <a:ext cx="0" cy="91440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3" name=""/>
                      <p:cNvSpPr/>
                      <p:nvPr/>
                    </p:nvSpPr>
                    <p:spPr>
                      <a:xfrm>
                        <a:off x="6019920" y="4190760"/>
                        <a:ext cx="0" cy="30492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4" name=""/>
                      <p:cNvSpPr/>
                      <p:nvPr/>
                    </p:nvSpPr>
                    <p:spPr>
                      <a:xfrm>
                        <a:off x="6400800" y="3581280"/>
                        <a:ext cx="0" cy="60948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5" name=""/>
                      <p:cNvSpPr/>
                      <p:nvPr/>
                    </p:nvSpPr>
                    <p:spPr>
                      <a:xfrm>
                        <a:off x="6781680" y="4190760"/>
                        <a:ext cx="0" cy="30492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6" name=""/>
                      <p:cNvSpPr/>
                      <p:nvPr/>
                    </p:nvSpPr>
                    <p:spPr>
                      <a:xfrm>
                        <a:off x="6019920" y="4190760"/>
                        <a:ext cx="38088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7" name=""/>
                      <p:cNvSpPr/>
                      <p:nvPr/>
                    </p:nvSpPr>
                    <p:spPr>
                      <a:xfrm>
                        <a:off x="6400800" y="4190760"/>
                        <a:ext cx="38088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8" name=""/>
                      <p:cNvSpPr/>
                      <p:nvPr/>
                    </p:nvSpPr>
                    <p:spPr>
                      <a:xfrm>
                        <a:off x="6172200" y="3581280"/>
                        <a:ext cx="45720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09" name=""/>
                      <p:cNvGrpSpPr/>
                      <p:nvPr/>
                    </p:nvGrpSpPr>
                    <p:grpSpPr>
                      <a:xfrm>
                        <a:off x="6934320" y="1752480"/>
                        <a:ext cx="1676160" cy="1523880"/>
                        <a:chOff x="6934320" y="1752480"/>
                        <a:chExt cx="1676160" cy="1523880"/>
                      </a:xfrm>
                    </p:grpSpPr>
                    <p:sp>
                      <p:nvSpPr>
                        <p:cNvPr id="710" name=""/>
                        <p:cNvSpPr/>
                        <p:nvPr/>
                      </p:nvSpPr>
                      <p:spPr>
                        <a:xfrm>
                          <a:off x="8001000" y="1752480"/>
                          <a:ext cx="609480" cy="609480"/>
                        </a:xfrm>
                        <a:prstGeom prst="ellipse">
                          <a:avLst/>
                        </a:prstGeom>
                        <a:noFill/>
                        <a:ln w="127080">
                          <a:solidFill>
                            <a:srgbClr val="ff99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0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Susan Z. </a:t>
                          </a:r>
                          <a:endParaRPr b="0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0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Anne</a:t>
                          </a:r>
                          <a:endParaRPr b="0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1" name=""/>
                        <p:cNvSpPr/>
                        <p:nvPr/>
                      </p:nvSpPr>
                      <p:spPr>
                        <a:xfrm>
                          <a:off x="7010280" y="1752480"/>
                          <a:ext cx="609840" cy="609480"/>
                        </a:xfrm>
                        <a:prstGeom prst="rect">
                          <a:avLst/>
                        </a:prstGeom>
                        <a:noFill/>
                        <a:ln w="12708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Brian 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Anne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2" name=""/>
                        <p:cNvSpPr/>
                        <p:nvPr/>
                      </p:nvSpPr>
                      <p:spPr>
                        <a:xfrm>
                          <a:off x="7696080" y="2057040"/>
                          <a:ext cx="30492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3" name=""/>
                        <p:cNvSpPr/>
                        <p:nvPr/>
                      </p:nvSpPr>
                      <p:spPr>
                        <a:xfrm>
                          <a:off x="6934320" y="2895480"/>
                          <a:ext cx="30456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4" name=""/>
                        <p:cNvSpPr/>
                        <p:nvPr/>
                      </p:nvSpPr>
                      <p:spPr>
                        <a:xfrm>
                          <a:off x="7772400" y="2057040"/>
                          <a:ext cx="0" cy="83844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5" name=""/>
                        <p:cNvSpPr/>
                        <p:nvPr/>
                      </p:nvSpPr>
                      <p:spPr>
                        <a:xfrm>
                          <a:off x="8610480" y="2819160"/>
                          <a:ext cx="0" cy="45720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6" name=""/>
                        <p:cNvSpPr/>
                        <p:nvPr/>
                      </p:nvSpPr>
                      <p:spPr>
                        <a:xfrm>
                          <a:off x="6934320" y="2895480"/>
                          <a:ext cx="0" cy="30456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7" name=""/>
                        <p:cNvSpPr/>
                        <p:nvPr/>
                      </p:nvSpPr>
                      <p:spPr>
                        <a:xfrm>
                          <a:off x="7238880" y="2895480"/>
                          <a:ext cx="137160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18" name=""/>
                      <p:cNvSpPr/>
                      <p:nvPr/>
                    </p:nvSpPr>
                    <p:spPr>
                      <a:xfrm>
                        <a:off x="8001000" y="3581280"/>
                        <a:ext cx="30492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19" name=""/>
                  <p:cNvGrpSpPr/>
                  <p:nvPr/>
                </p:nvGrpSpPr>
                <p:grpSpPr>
                  <a:xfrm>
                    <a:off x="685800" y="1523880"/>
                    <a:ext cx="8305920" cy="3980160"/>
                    <a:chOff x="685800" y="1523880"/>
                    <a:chExt cx="8305920" cy="3980160"/>
                  </a:xfrm>
                </p:grpSpPr>
                <p:sp>
                  <p:nvSpPr>
                    <p:cNvPr id="720" name=""/>
                    <p:cNvSpPr/>
                    <p:nvPr/>
                  </p:nvSpPr>
                  <p:spPr>
                    <a:xfrm>
                      <a:off x="1600200" y="2971800"/>
                      <a:ext cx="9907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4/1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>
                      <a:off x="2971800" y="518148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7/19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>
                      <a:off x="6019920" y="2971800"/>
                      <a:ext cx="6858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"/>
                    <p:cNvSpPr/>
                    <p:nvPr/>
                  </p:nvSpPr>
                  <p:spPr>
                    <a:xfrm>
                      <a:off x="8229600" y="403848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4/1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"/>
                    <p:cNvSpPr/>
                    <p:nvPr/>
                  </p:nvSpPr>
                  <p:spPr>
                    <a:xfrm>
                      <a:off x="685800" y="3886200"/>
                      <a:ext cx="106704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30/1927-4/8/19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>
                      <a:off x="1905120" y="525780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4/19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"/>
                    <p:cNvSpPr/>
                    <p:nvPr/>
                  </p:nvSpPr>
                  <p:spPr>
                    <a:xfrm>
                      <a:off x="7391520" y="403848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3/19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"/>
                    <p:cNvSpPr/>
                    <p:nvPr/>
                  </p:nvSpPr>
                  <p:spPr>
                    <a:xfrm>
                      <a:off x="2133720" y="2666880"/>
                      <a:ext cx="83808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1/1900 - 19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>
                      <a:off x="2819520" y="380988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7/19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"/>
                    <p:cNvSpPr/>
                    <p:nvPr/>
                  </p:nvSpPr>
                  <p:spPr>
                    <a:xfrm>
                      <a:off x="1219320" y="4495680"/>
                      <a:ext cx="83808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18/19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>
                      <a:off x="7925040" y="3032280"/>
                      <a:ext cx="6858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/19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6934320" y="2438280"/>
                      <a:ext cx="68580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/1917-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>
                      <a:off x="2057400" y="3733920"/>
                      <a:ext cx="6858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/19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>
                      <a:off x="3733920" y="3809880"/>
                      <a:ext cx="83808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7/193697-2/5/19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>
                      <a:off x="6553440" y="5257800"/>
                      <a:ext cx="83808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2/19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"/>
                    <p:cNvSpPr/>
                    <p:nvPr/>
                  </p:nvSpPr>
                  <p:spPr>
                    <a:xfrm>
                      <a:off x="2819520" y="181296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7/19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>
                      <a:off x="7543800" y="1523880"/>
                      <a:ext cx="1219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/19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>
                      <a:off x="7925040" y="2438280"/>
                      <a:ext cx="83808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15/1917- 2/5/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>
                      <a:off x="5257800" y="4403880"/>
                      <a:ext cx="6858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7/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>
                      <a:off x="3200400" y="2666880"/>
                      <a:ext cx="83844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2/1910-1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>
                      <a:off x="4648320" y="525780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3/19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"/>
                    <p:cNvSpPr/>
                    <p:nvPr/>
                  </p:nvSpPr>
                  <p:spPr>
                    <a:xfrm>
                      <a:off x="5715000" y="525780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4/19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2438640" y="4419720"/>
                      <a:ext cx="6858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5/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4114800" y="2895480"/>
                      <a:ext cx="6858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7/19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"/>
                    <p:cNvSpPr/>
                    <p:nvPr/>
                  </p:nvSpPr>
                  <p:spPr>
                    <a:xfrm>
                      <a:off x="4648320" y="3809880"/>
                      <a:ext cx="838080" cy="39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6/1920-5/25/195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>
                      <a:off x="7925040" y="5257800"/>
                      <a:ext cx="6858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/1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5410440" y="3962520"/>
                      <a:ext cx="83808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5/1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6629400" y="3870360"/>
                      <a:ext cx="7621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8/1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748" name=""/>
            <p:cNvSpPr/>
            <p:nvPr/>
          </p:nvSpPr>
          <p:spPr>
            <a:xfrm>
              <a:off x="3886200" y="2057400"/>
              <a:ext cx="990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shkenazi J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305920" y="144792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nadi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0" y="5867280"/>
            <a:ext cx="9144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 Box  (click &amp; dra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8088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04920" y="3352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1676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ne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28600" y="4114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28600" y="48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28600" y="5486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1814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791320" y="6172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705720" y="6172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649116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umb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362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362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362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362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362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219320" y="4114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0948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676520" y="2514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9718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9718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9718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9718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9718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9718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82880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28600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809880" y="2514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6576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6576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6576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6576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6576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6576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581280" y="4876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6668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477120" y="24382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1911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1911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1911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1911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1911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1911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1911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1911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1911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1911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1911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1911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1911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419720" y="4952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114800" y="3505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8610480" y="2438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7242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7242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7242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7242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7242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7242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7242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7242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7242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7242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7242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562720" y="4876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34340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257800" y="64911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2578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2578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2578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2578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2578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2578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248520" y="4876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25780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791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791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791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791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791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791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791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791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791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791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91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791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791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791320" y="6477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791320" y="6491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620120" y="48909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40080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8580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8580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8580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8580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8580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8580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8580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8580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85800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3888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2"/>
          <a:stretch/>
        </p:blipFill>
        <p:spPr>
          <a:xfrm>
            <a:off x="5257800" y="5410080"/>
            <a:ext cx="663480" cy="64476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7467480" y="64911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4674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4674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4674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674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4674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4674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4674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74674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4674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4674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4674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4674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8839080" y="3595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11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Fax"/>
              </a:rPr>
              <a:t>After tests are run, information gathered is used to determine the possible genotypes of the offspring with a Punnett square</a:t>
            </a: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869" name=""/>
          <p:cNvSpPr/>
          <p:nvPr/>
        </p:nvSpPr>
        <p:spPr>
          <a:xfrm>
            <a:off x="4114800" y="2971800"/>
            <a:ext cx="3581280" cy="2514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0" name=""/>
          <p:cNvCxnSpPr>
            <a:stCxn id="869" idx="0"/>
            <a:endCxn id="869" idx="2"/>
          </p:cNvCxnSpPr>
          <p:nvPr/>
        </p:nvCxnSpPr>
        <p:spPr>
          <a:xfrm>
            <a:off x="5905080" y="2971440"/>
            <a:ext cx="1080" cy="2515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1" name=""/>
          <p:cNvCxnSpPr>
            <a:stCxn id="869" idx="1"/>
            <a:endCxn id="869" idx="3"/>
          </p:cNvCxnSpPr>
          <p:nvPr/>
        </p:nvCxnSpPr>
        <p:spPr>
          <a:xfrm>
            <a:off x="4114800" y="4228920"/>
            <a:ext cx="358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2" name=""/>
          <p:cNvSpPr/>
          <p:nvPr/>
        </p:nvSpPr>
        <p:spPr>
          <a:xfrm>
            <a:off x="0" y="4191120"/>
            <a:ext cx="2666880" cy="2666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lick, drag, edit let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267080" y="3429000"/>
            <a:ext cx="6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343400" y="4724280"/>
            <a:ext cx="6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648320" y="2422440"/>
            <a:ext cx="6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3641760"/>
            <a:ext cx="6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477120" y="2422440"/>
            <a:ext cx="6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276720" y="4861080"/>
            <a:ext cx="6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85800" y="5927760"/>
            <a:ext cx="6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85800" y="6308640"/>
            <a:ext cx="6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181480" y="2117880"/>
            <a:ext cx="175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Fath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8534520" y="3048120"/>
            <a:ext cx="3808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Moth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4008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495680" y="2895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048120" y="5334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971800" y="4038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52280" y="5943600"/>
            <a:ext cx="6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52280" y="6384960"/>
            <a:ext cx="6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219320" y="5943600"/>
            <a:ext cx="6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219320" y="6308640"/>
            <a:ext cx="6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219320" y="5486400"/>
            <a:ext cx="6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248520" y="3429000"/>
            <a:ext cx="6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172200" y="4648320"/>
            <a:ext cx="6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895480" y="5791320"/>
            <a:ext cx="60199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Ratio of Genotypes: 1TT: 2 Tt: 1 tt: 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Odds of having the disorder: 25% t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1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Fax"/>
              </a:rPr>
              <a:t>The Pedigree starts with the parents of the unborn child.  (Open the embedded file to begin the project).</a:t>
            </a:r>
            <a:endParaRPr b="0" lang="en-US" sz="28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3352680"/>
            <a:ext cx="1600200" cy="703800"/>
          </a:xfrm>
          <a:prstGeom prst="rect">
            <a:avLst/>
          </a:prstGeom>
          <a:noFill/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m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u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3352680"/>
            <a:ext cx="1981440" cy="703800"/>
          </a:xfrm>
          <a:prstGeom prst="rect">
            <a:avLst/>
          </a:prstGeom>
          <a:noFill/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rtrude Mays Fu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0" y="5715000"/>
          <a:ext cx="914400" cy="714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57150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2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Gender is appropriately represented in the pedigree. 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3733920"/>
            <a:ext cx="1523880" cy="121896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u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3733920"/>
            <a:ext cx="1752480" cy="121896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rtru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s Fu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758880" cy="1219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999120" y="4433760"/>
            <a:ext cx="1868760" cy="1847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429000" y="2438280"/>
            <a:ext cx="1143000" cy="870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5715000" y="2362320"/>
            <a:ext cx="1143000" cy="11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53080" y="2438280"/>
            <a:ext cx="22860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Fax"/>
              </a:rPr>
              <a:t>Tool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3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Fax"/>
              </a:rPr>
              <a:t>Relationships are correctly shown in the pedigree as the mother and father are added. </a:t>
            </a:r>
            <a:endParaRPr b="0" lang="en-US" sz="32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3505320"/>
            <a:ext cx="914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4191120"/>
            <a:ext cx="0" cy="9144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8880" y="2819520"/>
            <a:ext cx="685800" cy="731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7543440" y="5257800"/>
            <a:ext cx="762120" cy="731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2971800"/>
            <a:ext cx="1752480" cy="121932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rtr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u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971800"/>
            <a:ext cx="1523880" cy="121932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u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3657600"/>
            <a:ext cx="55627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50021"/>
                </a:solidFill>
                <a:uFillTx/>
                <a:latin typeface="Lucida Fax"/>
              </a:rPr>
              <a:t>Tool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4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Fax"/>
              </a:rPr>
              <a:t>Additional family members on the maternal side are added. Add a blue box for James but do not add his name.  (Ask for help grouping objects when you are done.)</a:t>
            </a:r>
            <a:endParaRPr b="0" lang="en-US" sz="24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60199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62485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5410080"/>
            <a:ext cx="609480" cy="60984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6019920"/>
            <a:ext cx="609480" cy="60948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5410080"/>
            <a:ext cx="609480" cy="60984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6095880"/>
            <a:ext cx="609480" cy="60984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95480" y="58672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57150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495680" y="2590920"/>
            <a:ext cx="4191120" cy="3581280"/>
            <a:chOff x="4495680" y="2590920"/>
            <a:chExt cx="4191120" cy="3581280"/>
          </a:xfrm>
        </p:grpSpPr>
        <p:sp>
          <p:nvSpPr>
            <p:cNvPr id="81" name=""/>
            <p:cNvSpPr/>
            <p:nvPr/>
          </p:nvSpPr>
          <p:spPr>
            <a:xfrm>
              <a:off x="5334120" y="579132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96080" y="5410080"/>
              <a:ext cx="609840" cy="609840"/>
            </a:xfrm>
            <a:prstGeom prst="rect">
              <a:avLst/>
            </a:prstGeom>
            <a:noFill/>
            <a:ln w="127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e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Gre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24480" y="5410080"/>
              <a:ext cx="609840" cy="609840"/>
            </a:xfrm>
            <a:prstGeom prst="rect">
              <a:avLst/>
            </a:prstGeom>
            <a:noFill/>
            <a:ln w="127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Rober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a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15200" y="4191120"/>
              <a:ext cx="609480" cy="609480"/>
            </a:xfrm>
            <a:prstGeom prst="rect">
              <a:avLst/>
            </a:prstGeom>
            <a:noFill/>
            <a:ln w="127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Jo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Gre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34120" y="4114800"/>
              <a:ext cx="609480" cy="609480"/>
            </a:xfrm>
            <a:prstGeom prst="rect">
              <a:avLst/>
            </a:prstGeom>
            <a:noFill/>
            <a:ln w="127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Phili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a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95680" y="5410080"/>
              <a:ext cx="609840" cy="609840"/>
            </a:xfrm>
            <a:prstGeom prst="rect">
              <a:avLst/>
            </a:prstGeom>
            <a:noFill/>
            <a:ln w="127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077320" y="4191120"/>
              <a:ext cx="609480" cy="609480"/>
            </a:xfrm>
            <a:prstGeom prst="ellipse">
              <a:avLst/>
            </a:prstGeom>
            <a:noFill/>
            <a:ln w="127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eath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. Gre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86400" y="5410080"/>
              <a:ext cx="609480" cy="609840"/>
            </a:xfrm>
            <a:prstGeom prst="ellipse">
              <a:avLst/>
            </a:prstGeom>
            <a:noFill/>
            <a:ln w="127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Gertru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M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Full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00800" y="4114800"/>
              <a:ext cx="609480" cy="609480"/>
            </a:xfrm>
            <a:prstGeom prst="ellipse">
              <a:avLst/>
            </a:prstGeom>
            <a:noFill/>
            <a:ln w="127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Morga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. May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181480" y="571500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01000" y="441972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91320" y="50292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72200" y="441972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53080" y="50292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91320" y="50292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72200" y="50292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44197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6705720" y="2590920"/>
              <a:ext cx="1676160" cy="1523880"/>
              <a:chOff x="6705720" y="2590920"/>
              <a:chExt cx="1676160" cy="1523880"/>
            </a:xfrm>
          </p:grpSpPr>
          <p:sp>
            <p:nvSpPr>
              <p:cNvPr id="99" name=""/>
              <p:cNvSpPr/>
              <p:nvPr/>
            </p:nvSpPr>
            <p:spPr>
              <a:xfrm>
                <a:off x="7772400" y="2590920"/>
                <a:ext cx="609480" cy="609480"/>
              </a:xfrm>
              <a:prstGeom prst="ellipse">
                <a:avLst/>
              </a:prstGeom>
              <a:noFill/>
              <a:ln w="12708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Susan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Ann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81680" y="2590920"/>
                <a:ext cx="609840" cy="609480"/>
              </a:xfrm>
              <a:prstGeom prst="rect">
                <a:avLst/>
              </a:prstGeom>
              <a:noFill/>
              <a:ln w="127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Bria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An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467480" y="289548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05720" y="3733920"/>
                <a:ext cx="304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543800" y="2895480"/>
                <a:ext cx="0" cy="838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381880" y="36576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705720" y="3733920"/>
                <a:ext cx="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10280" y="3733920"/>
                <a:ext cx="1371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772400" y="441972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3276720" y="601992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666880" y="6324480"/>
            <a:ext cx="1370880" cy="532800"/>
            <a:chOff x="2666880" y="6324480"/>
            <a:chExt cx="1370880" cy="532800"/>
          </a:xfrm>
        </p:grpSpPr>
        <p:sp>
          <p:nvSpPr>
            <p:cNvPr id="110" name=""/>
            <p:cNvSpPr/>
            <p:nvPr/>
          </p:nvSpPr>
          <p:spPr>
            <a:xfrm>
              <a:off x="3352320" y="6324480"/>
              <a:ext cx="685440" cy="53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666880" y="6324480"/>
              <a:ext cx="685440" cy="53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590920" y="6172200"/>
            <a:ext cx="1370880" cy="532800"/>
            <a:chOff x="2590920" y="6172200"/>
            <a:chExt cx="1370880" cy="532800"/>
          </a:xfrm>
        </p:grpSpPr>
        <p:sp>
          <p:nvSpPr>
            <p:cNvPr id="113" name=""/>
            <p:cNvSpPr/>
            <p:nvPr/>
          </p:nvSpPr>
          <p:spPr>
            <a:xfrm>
              <a:off x="3276360" y="6172200"/>
              <a:ext cx="685440" cy="53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590920" y="6172200"/>
              <a:ext cx="685440" cy="53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 flipH="1">
            <a:off x="3657600" y="5486400"/>
            <a:ext cx="38088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029200" y="6213600"/>
            <a:ext cx="66348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3657600"/>
            <a:ext cx="55627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50021"/>
                </a:solidFill>
                <a:uFillTx/>
                <a:latin typeface="Lucida Fax"/>
              </a:rPr>
              <a:t>Tool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5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Fax"/>
              </a:rPr>
              <a:t>Additional family members on the paternal side are added. (Extend James Fuller far to the left and do not add Gertrude).</a:t>
            </a:r>
            <a:endParaRPr b="0" lang="en-US" sz="28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60199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248520"/>
            <a:ext cx="609480" cy="609480"/>
          </a:xfrm>
          <a:prstGeom prst="rect">
            <a:avLst/>
          </a:prstGeom>
          <a:noFill/>
          <a:ln w="127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5410080"/>
            <a:ext cx="609480" cy="60984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6019920"/>
            <a:ext cx="609480" cy="609480"/>
          </a:xfrm>
          <a:prstGeom prst="ellipse">
            <a:avLst/>
          </a:prstGeom>
          <a:noFill/>
          <a:ln w="127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d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58672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44956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601992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895480" y="6172200"/>
            <a:ext cx="1370880" cy="532800"/>
            <a:chOff x="2895480" y="6172200"/>
            <a:chExt cx="1370880" cy="532800"/>
          </a:xfrm>
        </p:grpSpPr>
        <p:sp>
          <p:nvSpPr>
            <p:cNvPr id="128" name=""/>
            <p:cNvSpPr/>
            <p:nvPr/>
          </p:nvSpPr>
          <p:spPr>
            <a:xfrm>
              <a:off x="3580920" y="6172200"/>
              <a:ext cx="685440" cy="53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895480" y="6172200"/>
              <a:ext cx="685440" cy="53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733920" y="2514600"/>
            <a:ext cx="4419360" cy="3200400"/>
            <a:chOff x="3733920" y="2514600"/>
            <a:chExt cx="4419360" cy="3200400"/>
          </a:xfrm>
        </p:grpSpPr>
        <p:sp>
          <p:nvSpPr>
            <p:cNvPr id="131" name=""/>
            <p:cNvSpPr/>
            <p:nvPr/>
          </p:nvSpPr>
          <p:spPr>
            <a:xfrm>
              <a:off x="6095880" y="480060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3733920" y="2514600"/>
              <a:ext cx="4419360" cy="3200400"/>
              <a:chOff x="3733920" y="2514600"/>
              <a:chExt cx="4419360" cy="3200400"/>
            </a:xfrm>
          </p:grpSpPr>
          <p:sp>
            <p:nvSpPr>
              <p:cNvPr id="133" name=""/>
              <p:cNvSpPr/>
              <p:nvPr/>
            </p:nvSpPr>
            <p:spPr>
              <a:xfrm>
                <a:off x="6095880" y="4724640"/>
                <a:ext cx="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3733920" y="2514600"/>
                <a:ext cx="4419360" cy="3200400"/>
                <a:chOff x="3733920" y="2514600"/>
                <a:chExt cx="4419360" cy="32004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72000" y="3962520"/>
                  <a:ext cx="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419720" y="3962520"/>
                  <a:ext cx="304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086600" y="3962520"/>
                  <a:ext cx="304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"/>
                <p:cNvGrpSpPr/>
                <p:nvPr/>
              </p:nvGrpSpPr>
              <p:grpSpPr>
                <a:xfrm>
                  <a:off x="3733920" y="2514600"/>
                  <a:ext cx="4419360" cy="3200400"/>
                  <a:chOff x="3733920" y="2514600"/>
                  <a:chExt cx="4419360" cy="320040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7543800" y="5105520"/>
                    <a:ext cx="609480" cy="609480"/>
                  </a:xfrm>
                  <a:prstGeom prst="rect">
                    <a:avLst/>
                  </a:prstGeom>
                  <a:noFill/>
                  <a:ln w="127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James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Fuller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0" name=""/>
                  <p:cNvGrpSpPr/>
                  <p:nvPr/>
                </p:nvGrpSpPr>
                <p:grpSpPr>
                  <a:xfrm>
                    <a:off x="3733920" y="2514600"/>
                    <a:ext cx="4343400" cy="3200400"/>
                    <a:chOff x="3733920" y="2514600"/>
                    <a:chExt cx="4343400" cy="3200400"/>
                  </a:xfrm>
                </p:grpSpPr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6400800" y="4800600"/>
                      <a:ext cx="15238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6400800" y="4038840"/>
                      <a:ext cx="0" cy="76176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5791320" y="5029200"/>
                      <a:ext cx="609480" cy="609840"/>
                    </a:xfrm>
                    <a:prstGeom prst="rect">
                      <a:avLst/>
                    </a:prstGeom>
                    <a:noFill/>
                    <a:ln w="127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h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ll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4267080" y="4419720"/>
                      <a:ext cx="609840" cy="609480"/>
                    </a:xfrm>
                    <a:prstGeom prst="rect">
                      <a:avLst/>
                    </a:prstGeom>
                    <a:noFill/>
                    <a:ln w="127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a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ustler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4876920" y="5105520"/>
                      <a:ext cx="609480" cy="609480"/>
                    </a:xfrm>
                    <a:prstGeom prst="ellipse">
                      <a:avLst/>
                    </a:prstGeom>
                    <a:noFill/>
                    <a:ln w="127080">
                      <a:solidFill>
                        <a:srgbClr val="ff99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ra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s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ll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5486400" y="5410440"/>
                      <a:ext cx="3049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47" name=""/>
                    <p:cNvGrpSpPr/>
                    <p:nvPr/>
                  </p:nvGrpSpPr>
                  <p:grpSpPr>
                    <a:xfrm>
                      <a:off x="3733920" y="2514600"/>
                      <a:ext cx="4343400" cy="1828800"/>
                      <a:chOff x="3733920" y="2514600"/>
                      <a:chExt cx="4343400" cy="1828800"/>
                    </a:xfrm>
                  </p:grpSpPr>
                  <p:grpSp>
                    <p:nvGrpSpPr>
                      <p:cNvPr id="148" name=""/>
                      <p:cNvGrpSpPr/>
                      <p:nvPr/>
                    </p:nvGrpSpPr>
                    <p:grpSpPr>
                      <a:xfrm>
                        <a:off x="3733920" y="2514600"/>
                        <a:ext cx="4343400" cy="1828800"/>
                        <a:chOff x="3733920" y="2514600"/>
                        <a:chExt cx="4343400" cy="1828800"/>
                      </a:xfrm>
                    </p:grpSpPr>
                    <p:sp>
                      <p:nvSpPr>
                        <p:cNvPr id="149" name=""/>
                        <p:cNvSpPr/>
                        <p:nvPr/>
                      </p:nvSpPr>
                      <p:spPr>
                        <a:xfrm>
                          <a:off x="6248520" y="4038840"/>
                          <a:ext cx="30456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50" name=""/>
                        <p:cNvGrpSpPr/>
                        <p:nvPr/>
                      </p:nvGrpSpPr>
                      <p:grpSpPr>
                        <a:xfrm>
                          <a:off x="3733920" y="2514600"/>
                          <a:ext cx="4343400" cy="1828800"/>
                          <a:chOff x="3733920" y="2514600"/>
                          <a:chExt cx="4343400" cy="1828800"/>
                        </a:xfrm>
                      </p:grpSpPr>
                      <p:sp>
                        <p:nvSpPr>
                          <p:cNvPr id="151" name=""/>
                          <p:cNvSpPr/>
                          <p:nvPr/>
                        </p:nvSpPr>
                        <p:spPr>
                          <a:xfrm>
                            <a:off x="4648320" y="3733560"/>
                            <a:ext cx="609480" cy="609840"/>
                          </a:xfrm>
                          <a:prstGeom prst="ellipse">
                            <a:avLst/>
                          </a:prstGeom>
                          <a:noFill/>
                          <a:ln w="127080">
                            <a:solidFill>
                              <a:srgbClr val="ff99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1000" spc="-1" strike="noStrike">
                                <a:solidFill>
                                  <a:srgbClr val="000000"/>
                                </a:solidFill>
                                <a:latin typeface="Comic Sans MS"/>
                              </a:rPr>
                              <a:t>Gwen G. </a:t>
                            </a:r>
                            <a:endParaRPr b="0" lang="en-US" sz="1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1000" spc="-1" strike="noStrike">
                                <a:solidFill>
                                  <a:srgbClr val="000000"/>
                                </a:solidFill>
                                <a:latin typeface="Comic Sans MS"/>
                              </a:rPr>
                              <a:t>Hustler</a:t>
                            </a:r>
                            <a:endParaRPr b="0" lang="en-US" sz="1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2" name=""/>
                          <p:cNvSpPr/>
                          <p:nvPr/>
                        </p:nvSpPr>
                        <p:spPr>
                          <a:xfrm>
                            <a:off x="7467840" y="3733560"/>
                            <a:ext cx="609480" cy="609840"/>
                          </a:xfrm>
                          <a:prstGeom prst="rect">
                            <a:avLst/>
                          </a:prstGeom>
                          <a:noFill/>
                          <a:ln w="127080">
                            <a:solidFill>
                              <a:srgbClr val="0000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1200" spc="-1" strike="noStrike">
                                <a:solidFill>
                                  <a:srgbClr val="000000"/>
                                </a:solidFill>
                                <a:latin typeface="Comic Sans MS"/>
                              </a:rPr>
                              <a:t>Jason 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1200" spc="-1" strike="noStrike">
                                <a:solidFill>
                                  <a:srgbClr val="000000"/>
                                </a:solidFill>
                                <a:latin typeface="Comic Sans MS"/>
                              </a:rPr>
                              <a:t>Homes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3" name=""/>
                          <p:cNvSpPr/>
                          <p:nvPr/>
                        </p:nvSpPr>
                        <p:spPr>
                          <a:xfrm>
                            <a:off x="5639040" y="3657600"/>
                            <a:ext cx="609480" cy="609480"/>
                          </a:xfrm>
                          <a:prstGeom prst="rect">
                            <a:avLst/>
                          </a:prstGeom>
                          <a:noFill/>
                          <a:ln w="127080">
                            <a:solidFill>
                              <a:srgbClr val="0000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1200" spc="-1" strike="noStrike">
                                <a:solidFill>
                                  <a:srgbClr val="000000"/>
                                </a:solidFill>
                                <a:latin typeface="Comic Sans MS"/>
                              </a:rPr>
                              <a:t>Max 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1200" spc="-1" strike="noStrike">
                                <a:solidFill>
                                  <a:srgbClr val="000000"/>
                                </a:solidFill>
                                <a:latin typeface="Comic Sans MS"/>
                              </a:rPr>
                              <a:t>Fuller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4" name=""/>
                          <p:cNvSpPr/>
                          <p:nvPr/>
                        </p:nvSpPr>
                        <p:spPr>
                          <a:xfrm>
                            <a:off x="3733920" y="3733560"/>
                            <a:ext cx="609480" cy="609840"/>
                          </a:xfrm>
                          <a:prstGeom prst="rect">
                            <a:avLst/>
                          </a:prstGeom>
                          <a:noFill/>
                          <a:ln w="127080">
                            <a:solidFill>
                              <a:srgbClr val="0000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1200" spc="-1" strike="noStrike">
                                <a:solidFill>
                                  <a:srgbClr val="000000"/>
                                </a:solidFill>
                                <a:latin typeface="Comic Sans MS"/>
                              </a:rPr>
                              <a:t>Adam 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1200" spc="-1" strike="noStrike">
                                <a:solidFill>
                                  <a:srgbClr val="000000"/>
                                </a:solidFill>
                                <a:latin typeface="Comic Sans MS"/>
                              </a:rPr>
                              <a:t>Hustler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5" name=""/>
                          <p:cNvSpPr/>
                          <p:nvPr/>
                        </p:nvSpPr>
                        <p:spPr>
                          <a:xfrm>
                            <a:off x="6477120" y="3733560"/>
                            <a:ext cx="609480" cy="609840"/>
                          </a:xfrm>
                          <a:prstGeom prst="ellipse">
                            <a:avLst/>
                          </a:prstGeom>
                          <a:noFill/>
                          <a:ln w="127080">
                            <a:solidFill>
                              <a:srgbClr val="ff99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1000" spc="-1" strike="noStrike">
                                <a:solidFill>
                                  <a:srgbClr val="000000"/>
                                </a:solidFill>
                                <a:latin typeface="Comic Sans MS"/>
                              </a:rPr>
                              <a:t>Andrea G. </a:t>
                            </a:r>
                            <a:endParaRPr b="0" lang="en-US" sz="1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1000" spc="-1" strike="noStrike">
                                <a:solidFill>
                                  <a:srgbClr val="000000"/>
                                </a:solidFill>
                                <a:latin typeface="Comic Sans MS"/>
                              </a:rPr>
                              <a:t>Fuller</a:t>
                            </a:r>
                            <a:endParaRPr b="0" lang="en-US" sz="10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56" name=""/>
                          <p:cNvGrpSpPr/>
                          <p:nvPr/>
                        </p:nvGrpSpPr>
                        <p:grpSpPr>
                          <a:xfrm>
                            <a:off x="5029200" y="2514600"/>
                            <a:ext cx="1600200" cy="1294560"/>
                            <a:chOff x="5029200" y="2514600"/>
                            <a:chExt cx="1600200" cy="1294560"/>
                          </a:xfrm>
                        </p:grpSpPr>
                        <p:sp>
                          <p:nvSpPr>
                            <p:cNvPr id="157" name=""/>
                            <p:cNvSpPr/>
                            <p:nvPr/>
                          </p:nvSpPr>
                          <p:spPr>
                            <a:xfrm>
                              <a:off x="5029200" y="2514600"/>
                              <a:ext cx="609840" cy="609480"/>
                            </a:xfrm>
                            <a:prstGeom prst="rect">
                              <a:avLst/>
                            </a:prstGeom>
                            <a:noFill/>
                            <a:ln w="127080">
                              <a:solidFill>
                                <a:srgbClr val="0000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Kenneth 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Grange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8" name=""/>
                            <p:cNvSpPr/>
                            <p:nvPr/>
                          </p:nvSpPr>
                          <p:spPr>
                            <a:xfrm>
                              <a:off x="6019920" y="2514600"/>
                              <a:ext cx="609480" cy="609480"/>
                            </a:xfrm>
                            <a:prstGeom prst="ellipse">
                              <a:avLst/>
                            </a:prstGeom>
                            <a:noFill/>
                            <a:ln w="127080">
                              <a:solidFill>
                                <a:srgbClr val="ff99cc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0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Edith M. </a:t>
                              </a:r>
                              <a:endParaRPr b="0" lang="en-US" sz="1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0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Grange</a:t>
                              </a:r>
                              <a:endParaRPr b="0" lang="en-US" sz="1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159" name=""/>
                            <p:cNvGrpSpPr/>
                            <p:nvPr/>
                          </p:nvGrpSpPr>
                          <p:grpSpPr>
                            <a:xfrm>
                              <a:off x="5181840" y="3276360"/>
                              <a:ext cx="1370880" cy="532800"/>
                              <a:chOff x="5181840" y="3276360"/>
                              <a:chExt cx="1370880" cy="532800"/>
                            </a:xfrm>
                          </p:grpSpPr>
                          <p:sp>
                            <p:nvSpPr>
                              <p:cNvPr id="160" name=""/>
                              <p:cNvSpPr/>
                              <p:nvPr/>
                            </p:nvSpPr>
                            <p:spPr>
                              <a:xfrm>
                                <a:off x="5867280" y="3276360"/>
                                <a:ext cx="685440" cy="532800"/>
                              </a:xfrm>
                              <a:prstGeom prst="line">
                                <a:avLst/>
                              </a:prstGeom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1" name=""/>
                              <p:cNvSpPr/>
                              <p:nvPr/>
                            </p:nvSpPr>
                            <p:spPr>
                              <a:xfrm flipH="1">
                                <a:off x="5181840" y="3276360"/>
                                <a:ext cx="685440" cy="532800"/>
                              </a:xfrm>
                              <a:prstGeom prst="line">
                                <a:avLst/>
                              </a:prstGeom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62" name=""/>
                            <p:cNvSpPr/>
                            <p:nvPr/>
                          </p:nvSpPr>
                          <p:spPr>
                            <a:xfrm>
                              <a:off x="5867640" y="2743200"/>
                              <a:ext cx="0" cy="533160"/>
                            </a:xfrm>
                            <a:prstGeom prst="line">
                              <a:avLst/>
                            </a:prstGeom>
                            <a:ln w="255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3" name=""/>
                            <p:cNvSpPr/>
                            <p:nvPr/>
                          </p:nvSpPr>
                          <p:spPr>
                            <a:xfrm>
                              <a:off x="5715000" y="2743200"/>
                              <a:ext cx="304920" cy="0"/>
                            </a:xfrm>
                            <a:prstGeom prst="line">
                              <a:avLst/>
                            </a:prstGeom>
                            <a:ln w="255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sp>
                    <p:nvSpPr>
                      <p:cNvPr id="164" name=""/>
                      <p:cNvSpPr/>
                      <p:nvPr/>
                    </p:nvSpPr>
                    <p:spPr>
                      <a:xfrm flipH="1">
                        <a:off x="7543800" y="3810240"/>
                        <a:ext cx="380880" cy="45720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65" name=""/>
              <p:cNvSpPr/>
              <p:nvPr/>
            </p:nvSpPr>
            <p:spPr>
              <a:xfrm>
                <a:off x="7924680" y="480060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8077320" y="6019920"/>
            <a:ext cx="66348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6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Fax"/>
              </a:rPr>
              <a:t>Entire pedigree is now pieced together. (copy maternal and paternal, paste, and group here.)</a:t>
            </a:r>
            <a:endParaRPr b="0" lang="en-US" sz="2500" spc="-1" strike="noStrike">
              <a:solidFill>
                <a:srgbClr val="000000"/>
              </a:solidFill>
              <a:latin typeface="Lucida Fax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Fax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85800" y="2590920"/>
            <a:ext cx="8001000" cy="3581280"/>
            <a:chOff x="685800" y="2590920"/>
            <a:chExt cx="8001000" cy="3581280"/>
          </a:xfrm>
        </p:grpSpPr>
        <p:grpSp>
          <p:nvGrpSpPr>
            <p:cNvPr id="170" name=""/>
            <p:cNvGrpSpPr/>
            <p:nvPr/>
          </p:nvGrpSpPr>
          <p:grpSpPr>
            <a:xfrm>
              <a:off x="685800" y="2819520"/>
              <a:ext cx="4419360" cy="3200400"/>
              <a:chOff x="685800" y="2819520"/>
              <a:chExt cx="4419360" cy="3200400"/>
            </a:xfrm>
          </p:grpSpPr>
          <p:sp>
            <p:nvSpPr>
              <p:cNvPr id="171" name=""/>
              <p:cNvSpPr/>
              <p:nvPr/>
            </p:nvSpPr>
            <p:spPr>
              <a:xfrm>
                <a:off x="3047760" y="510552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685800" y="2819520"/>
                <a:ext cx="4419360" cy="3200400"/>
                <a:chOff x="685800" y="2819520"/>
                <a:chExt cx="4419360" cy="32004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047760" y="5029560"/>
                  <a:ext cx="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"/>
                <p:cNvGrpSpPr/>
                <p:nvPr/>
              </p:nvGrpSpPr>
              <p:grpSpPr>
                <a:xfrm>
                  <a:off x="685800" y="2819520"/>
                  <a:ext cx="4419360" cy="3200400"/>
                  <a:chOff x="685800" y="2819520"/>
                  <a:chExt cx="4419360" cy="320040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1523880" y="4267440"/>
                    <a:ext cx="0" cy="304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1371600" y="4267440"/>
                    <a:ext cx="304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4038480" y="4267440"/>
                    <a:ext cx="30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685800" y="2819520"/>
                    <a:ext cx="4419360" cy="3200400"/>
                    <a:chOff x="685800" y="2819520"/>
                    <a:chExt cx="4419360" cy="3200400"/>
                  </a:xfrm>
                </p:grpSpPr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4495680" y="5410440"/>
                      <a:ext cx="609480" cy="609480"/>
                    </a:xfrm>
                    <a:prstGeom prst="rect">
                      <a:avLst/>
                    </a:prstGeom>
                    <a:noFill/>
                    <a:ln w="127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am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ll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685800" y="2819520"/>
                      <a:ext cx="4343400" cy="3200400"/>
                      <a:chOff x="685800" y="2819520"/>
                      <a:chExt cx="4343400" cy="320040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3352680" y="5105520"/>
                        <a:ext cx="152388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3352680" y="4343760"/>
                        <a:ext cx="0" cy="76176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" name=""/>
                      <p:cNvSpPr/>
                      <p:nvPr/>
                    </p:nvSpPr>
                    <p:spPr>
                      <a:xfrm>
                        <a:off x="2743200" y="5334120"/>
                        <a:ext cx="609480" cy="609840"/>
                      </a:xfrm>
                      <a:prstGeom prst="rect">
                        <a:avLst/>
                      </a:prstGeom>
                      <a:noFill/>
                      <a:ln w="1270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John 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Fuller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1218960" y="4724640"/>
                        <a:ext cx="609840" cy="609480"/>
                      </a:xfrm>
                      <a:prstGeom prst="rect">
                        <a:avLst/>
                      </a:prstGeom>
                      <a:noFill/>
                      <a:ln w="1270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Adam 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Hustler, 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Jr.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1828800" y="5410440"/>
                        <a:ext cx="609480" cy="609480"/>
                      </a:xfrm>
                      <a:prstGeom prst="ellipse">
                        <a:avLst/>
                      </a:prstGeom>
                      <a:noFill/>
                      <a:ln w="127080">
                        <a:solidFill>
                          <a:srgbClr val="ff99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Sarah 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Best 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Fuller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2438280" y="5715360"/>
                        <a:ext cx="30492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87" name=""/>
                      <p:cNvGrpSpPr/>
                      <p:nvPr/>
                    </p:nvGrpSpPr>
                    <p:grpSpPr>
                      <a:xfrm>
                        <a:off x="685800" y="2819520"/>
                        <a:ext cx="4343400" cy="1828800"/>
                        <a:chOff x="685800" y="2819520"/>
                        <a:chExt cx="4343400" cy="1828800"/>
                      </a:xfrm>
                    </p:grpSpPr>
                    <p:grpSp>
                      <p:nvGrpSpPr>
                        <p:cNvPr id="188" name=""/>
                        <p:cNvGrpSpPr/>
                        <p:nvPr/>
                      </p:nvGrpSpPr>
                      <p:grpSpPr>
                        <a:xfrm>
                          <a:off x="685800" y="2819520"/>
                          <a:ext cx="4343400" cy="1828800"/>
                          <a:chOff x="685800" y="2819520"/>
                          <a:chExt cx="4343400" cy="1828800"/>
                        </a:xfrm>
                      </p:grpSpPr>
                      <p:sp>
                        <p:nvSpPr>
                          <p:cNvPr id="189" name=""/>
                          <p:cNvSpPr/>
                          <p:nvPr/>
                        </p:nvSpPr>
                        <p:spPr>
                          <a:xfrm>
                            <a:off x="3200400" y="4343760"/>
                            <a:ext cx="304560" cy="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90" name=""/>
                          <p:cNvGrpSpPr/>
                          <p:nvPr/>
                        </p:nvGrpSpPr>
                        <p:grpSpPr>
                          <a:xfrm>
                            <a:off x="685800" y="2819520"/>
                            <a:ext cx="4343400" cy="1828800"/>
                            <a:chOff x="685800" y="2819520"/>
                            <a:chExt cx="4343400" cy="1828800"/>
                          </a:xfrm>
                        </p:grpSpPr>
                        <p:sp>
                          <p:nvSpPr>
                            <p:cNvPr id="191" name=""/>
                            <p:cNvSpPr/>
                            <p:nvPr/>
                          </p:nvSpPr>
                          <p:spPr>
                            <a:xfrm>
                              <a:off x="1600200" y="4038480"/>
                              <a:ext cx="609480" cy="609840"/>
                            </a:xfrm>
                            <a:prstGeom prst="ellipse">
                              <a:avLst/>
                            </a:prstGeom>
                            <a:noFill/>
                            <a:ln w="127080">
                              <a:solidFill>
                                <a:srgbClr val="ff99cc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0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Gwen G. </a:t>
                              </a:r>
                              <a:endParaRPr b="0" lang="en-US" sz="1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0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Hustler</a:t>
                              </a:r>
                              <a:endParaRPr b="0" lang="en-US" sz="1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2" name=""/>
                            <p:cNvSpPr/>
                            <p:nvPr/>
                          </p:nvSpPr>
                          <p:spPr>
                            <a:xfrm>
                              <a:off x="4419720" y="4038480"/>
                              <a:ext cx="609480" cy="609840"/>
                            </a:xfrm>
                            <a:prstGeom prst="rect">
                              <a:avLst/>
                            </a:prstGeom>
                            <a:noFill/>
                            <a:ln w="127080">
                              <a:solidFill>
                                <a:srgbClr val="0000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Jason 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Homes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3" name=""/>
                            <p:cNvSpPr/>
                            <p:nvPr/>
                          </p:nvSpPr>
                          <p:spPr>
                            <a:xfrm>
                              <a:off x="2590920" y="3962520"/>
                              <a:ext cx="609480" cy="609480"/>
                            </a:xfrm>
                            <a:prstGeom prst="rect">
                              <a:avLst/>
                            </a:prstGeom>
                            <a:noFill/>
                            <a:ln w="127080">
                              <a:solidFill>
                                <a:srgbClr val="0000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Max 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Fuller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4" name=""/>
                            <p:cNvSpPr/>
                            <p:nvPr/>
                          </p:nvSpPr>
                          <p:spPr>
                            <a:xfrm>
                              <a:off x="685800" y="4038480"/>
                              <a:ext cx="609480" cy="609840"/>
                            </a:xfrm>
                            <a:prstGeom prst="rect">
                              <a:avLst/>
                            </a:prstGeom>
                            <a:noFill/>
                            <a:ln w="127080">
                              <a:solidFill>
                                <a:srgbClr val="0000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Adam 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Hustler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5" name=""/>
                            <p:cNvSpPr/>
                            <p:nvPr/>
                          </p:nvSpPr>
                          <p:spPr>
                            <a:xfrm>
                              <a:off x="3429000" y="4038480"/>
                              <a:ext cx="609480" cy="609840"/>
                            </a:xfrm>
                            <a:prstGeom prst="ellipse">
                              <a:avLst/>
                            </a:prstGeom>
                            <a:noFill/>
                            <a:ln w="127080">
                              <a:solidFill>
                                <a:srgbClr val="ff99cc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0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Andrea G. </a:t>
                              </a:r>
                              <a:endParaRPr b="0" lang="en-US" sz="1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0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Fuller</a:t>
                              </a:r>
                              <a:endParaRPr b="0" lang="en-US" sz="1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196" name=""/>
                            <p:cNvGrpSpPr/>
                            <p:nvPr/>
                          </p:nvGrpSpPr>
                          <p:grpSpPr>
                            <a:xfrm>
                              <a:off x="1981080" y="2819520"/>
                              <a:ext cx="1600200" cy="1294560"/>
                              <a:chOff x="1981080" y="2819520"/>
                              <a:chExt cx="1600200" cy="1294560"/>
                            </a:xfrm>
                          </p:grpSpPr>
                          <p:sp>
                            <p:nvSpPr>
                              <p:cNvPr id="197" name=""/>
                              <p:cNvSpPr/>
                              <p:nvPr/>
                            </p:nvSpPr>
                            <p:spPr>
                              <a:xfrm>
                                <a:off x="1981080" y="2819520"/>
                                <a:ext cx="609840" cy="609480"/>
                              </a:xfrm>
                              <a:prstGeom prst="rect">
                                <a:avLst/>
                              </a:prstGeom>
                              <a:noFill/>
                              <a:ln w="127080">
                                <a:solidFill>
                                  <a:srgbClr val="0000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Kenneth 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Grange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8" name=""/>
                              <p:cNvSpPr/>
                              <p:nvPr/>
                            </p:nvSpPr>
                            <p:spPr>
                              <a:xfrm>
                                <a:off x="2971800" y="2819520"/>
                                <a:ext cx="609480" cy="609480"/>
                              </a:xfrm>
                              <a:prstGeom prst="ellipse">
                                <a:avLst/>
                              </a:prstGeom>
                              <a:noFill/>
                              <a:ln w="127080">
                                <a:solidFill>
                                  <a:srgbClr val="ff99cc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Edith M. 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Grange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199" name=""/>
                              <p:cNvGrpSpPr/>
                              <p:nvPr/>
                            </p:nvGrpSpPr>
                            <p:grpSpPr>
                              <a:xfrm>
                                <a:off x="2133720" y="3581280"/>
                                <a:ext cx="1370880" cy="532800"/>
                                <a:chOff x="2133720" y="3581280"/>
                                <a:chExt cx="1370880" cy="532800"/>
                              </a:xfrm>
                            </p:grpSpPr>
                            <p:sp>
                              <p:nvSpPr>
                                <p:cNvPr id="200" name=""/>
                                <p:cNvSpPr/>
                                <p:nvPr/>
                              </p:nvSpPr>
                              <p:spPr>
                                <a:xfrm>
                                  <a:off x="2819160" y="3581280"/>
                                  <a:ext cx="685440" cy="532800"/>
                                </a:xfrm>
                                <a:prstGeom prst="line">
                                  <a:avLst/>
                                </a:prstGeom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01" name=""/>
                                <p:cNvSpPr/>
                                <p:nvPr/>
                              </p:nvSpPr>
                              <p:spPr>
                                <a:xfrm flipH="1">
                                  <a:off x="2133720" y="3581280"/>
                                  <a:ext cx="685440" cy="532800"/>
                                </a:xfrm>
                                <a:prstGeom prst="line">
                                  <a:avLst/>
                                </a:prstGeom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02" name=""/>
                              <p:cNvSpPr/>
                              <p:nvPr/>
                            </p:nvSpPr>
                            <p:spPr>
                              <a:xfrm>
                                <a:off x="2819520" y="3048120"/>
                                <a:ext cx="0" cy="533160"/>
                              </a:xfrm>
                              <a:prstGeom prst="line">
                                <a:avLst/>
                              </a:prstGeom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3" name=""/>
                              <p:cNvSpPr/>
                              <p:nvPr/>
                            </p:nvSpPr>
                            <p:spPr>
                              <a:xfrm>
                                <a:off x="2666880" y="3048120"/>
                                <a:ext cx="304920" cy="0"/>
                              </a:xfrm>
                              <a:prstGeom prst="line">
                                <a:avLst/>
                              </a:prstGeom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 flipH="1">
                          <a:off x="4495680" y="4115160"/>
                          <a:ext cx="380880" cy="45720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205" name=""/>
                <p:cNvSpPr/>
                <p:nvPr/>
              </p:nvSpPr>
              <p:spPr>
                <a:xfrm>
                  <a:off x="4876560" y="51055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4495680" y="2590920"/>
              <a:ext cx="4191120" cy="3581280"/>
              <a:chOff x="4495680" y="2590920"/>
              <a:chExt cx="4191120" cy="3581280"/>
            </a:xfrm>
          </p:grpSpPr>
          <p:sp>
            <p:nvSpPr>
              <p:cNvPr id="207" name=""/>
              <p:cNvSpPr/>
              <p:nvPr/>
            </p:nvSpPr>
            <p:spPr>
              <a:xfrm>
                <a:off x="5334120" y="57913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696080" y="5410080"/>
                <a:ext cx="609840" cy="609840"/>
              </a:xfrm>
              <a:prstGeom prst="rect">
                <a:avLst/>
              </a:prstGeom>
              <a:noFill/>
              <a:ln w="127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Hector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Gre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324480" y="5410080"/>
                <a:ext cx="609840" cy="609840"/>
              </a:xfrm>
              <a:prstGeom prst="rect">
                <a:avLst/>
              </a:prstGeom>
              <a:noFill/>
              <a:ln w="127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Robert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May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315200" y="4191120"/>
                <a:ext cx="609480" cy="609480"/>
              </a:xfrm>
              <a:prstGeom prst="rect">
                <a:avLst/>
              </a:prstGeom>
              <a:noFill/>
              <a:ln w="127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Jo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Gree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334120" y="4114800"/>
                <a:ext cx="609480" cy="609480"/>
              </a:xfrm>
              <a:prstGeom prst="rect">
                <a:avLst/>
              </a:prstGeom>
              <a:noFill/>
              <a:ln w="127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Philip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May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495680" y="5410080"/>
                <a:ext cx="609840" cy="609840"/>
              </a:xfrm>
              <a:prstGeom prst="rect">
                <a:avLst/>
              </a:prstGeom>
              <a:noFill/>
              <a:ln w="127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077320" y="4191120"/>
                <a:ext cx="609480" cy="609480"/>
              </a:xfrm>
              <a:prstGeom prst="ellipse">
                <a:avLst/>
              </a:prstGeom>
              <a:noFill/>
              <a:ln w="12708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Heath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A. Gree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486400" y="5410080"/>
                <a:ext cx="609480" cy="609840"/>
              </a:xfrm>
              <a:prstGeom prst="ellipse">
                <a:avLst/>
              </a:prstGeom>
              <a:noFill/>
              <a:ln w="12708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Gertru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M.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Full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00800" y="4114800"/>
                <a:ext cx="609480" cy="609480"/>
              </a:xfrm>
              <a:prstGeom prst="ellipse">
                <a:avLst/>
              </a:prstGeom>
              <a:noFill/>
              <a:ln w="12708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Morgan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A. May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181480" y="571500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001000" y="4419720"/>
                <a:ext cx="0" cy="914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791320" y="502920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172200" y="4419720"/>
                <a:ext cx="0" cy="60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553080" y="502920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791320" y="502920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172200" y="502920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943600" y="44197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6705720" y="2590920"/>
                <a:ext cx="1676160" cy="1523880"/>
                <a:chOff x="6705720" y="2590920"/>
                <a:chExt cx="1676160" cy="15238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7772400" y="2590920"/>
                  <a:ext cx="609480" cy="609480"/>
                </a:xfrm>
                <a:prstGeom prst="ellipse">
                  <a:avLst/>
                </a:prstGeom>
                <a:noFill/>
                <a:ln w="12708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Susan Z.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nn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781680" y="2590920"/>
                  <a:ext cx="609840" cy="609480"/>
                </a:xfrm>
                <a:prstGeom prst="rect">
                  <a:avLst/>
                </a:prstGeom>
                <a:noFill/>
                <a:ln w="127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Brian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Ann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467480" y="2895480"/>
                  <a:ext cx="304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705720" y="3733920"/>
                  <a:ext cx="304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43800" y="2895480"/>
                  <a:ext cx="0" cy="838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381880" y="365760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05720" y="3733920"/>
                  <a:ext cx="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010280" y="3733920"/>
                  <a:ext cx="1371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772400" y="441972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029200" y="6213600"/>
            <a:ext cx="66348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Fax"/>
              </a:rPr>
              <a:t>Birth, marriage, and death information, when applicable, is provided about each individual.</a:t>
            </a:r>
            <a:endParaRPr b="0" lang="en-US" sz="2500" spc="-1" strike="noStrike">
              <a:solidFill>
                <a:srgbClr val="000000"/>
              </a:solidFill>
              <a:latin typeface="Lucida Fax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4876920"/>
            <a:ext cx="190512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lick, drag, ed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7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31845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/10/19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838080" y="1584360"/>
            <a:ext cx="8305920" cy="3980160"/>
            <a:chOff x="838080" y="1584360"/>
            <a:chExt cx="8305920" cy="3980160"/>
          </a:xfrm>
        </p:grpSpPr>
        <p:grpSp>
          <p:nvGrpSpPr>
            <p:cNvPr id="240" name=""/>
            <p:cNvGrpSpPr/>
            <p:nvPr/>
          </p:nvGrpSpPr>
          <p:grpSpPr>
            <a:xfrm>
              <a:off x="1066680" y="1812960"/>
              <a:ext cx="8001000" cy="3581280"/>
              <a:chOff x="1066680" y="1812960"/>
              <a:chExt cx="8001000" cy="358128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1066680" y="2041560"/>
                <a:ext cx="4419360" cy="3200400"/>
                <a:chOff x="1066680" y="2041560"/>
                <a:chExt cx="4419360" cy="32004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428640" y="4327560"/>
                  <a:ext cx="304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3" name=""/>
                <p:cNvGrpSpPr/>
                <p:nvPr/>
              </p:nvGrpSpPr>
              <p:grpSpPr>
                <a:xfrm>
                  <a:off x="1066680" y="2041560"/>
                  <a:ext cx="4419360" cy="3200400"/>
                  <a:chOff x="1066680" y="2041560"/>
                  <a:chExt cx="4419360" cy="320040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3428640" y="4251600"/>
                    <a:ext cx="0" cy="304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1066680" y="2041560"/>
                    <a:ext cx="4419360" cy="3200400"/>
                    <a:chOff x="1066680" y="2041560"/>
                    <a:chExt cx="4419360" cy="320040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1904760" y="3489480"/>
                      <a:ext cx="0" cy="30492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1752480" y="3489480"/>
                      <a:ext cx="3045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4419360" y="3489480"/>
                      <a:ext cx="3049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49" name=""/>
                    <p:cNvGrpSpPr/>
                    <p:nvPr/>
                  </p:nvGrpSpPr>
                  <p:grpSpPr>
                    <a:xfrm>
                      <a:off x="1066680" y="2041560"/>
                      <a:ext cx="4419360" cy="3200400"/>
                      <a:chOff x="1066680" y="2041560"/>
                      <a:chExt cx="4419360" cy="3200400"/>
                    </a:xfrm>
                  </p:grpSpPr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4876560" y="4632480"/>
                        <a:ext cx="609480" cy="609480"/>
                      </a:xfrm>
                      <a:prstGeom prst="rect">
                        <a:avLst/>
                      </a:prstGeom>
                      <a:noFill/>
                      <a:ln w="1270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James 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Fuller 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51" name=""/>
                      <p:cNvGrpSpPr/>
                      <p:nvPr/>
                    </p:nvGrpSpPr>
                    <p:grpSpPr>
                      <a:xfrm>
                        <a:off x="1066680" y="2041560"/>
                        <a:ext cx="4343400" cy="3200400"/>
                        <a:chOff x="1066680" y="2041560"/>
                        <a:chExt cx="4343400" cy="3200400"/>
                      </a:xfrm>
                    </p:grpSpPr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>
                          <a:off x="3733560" y="4327560"/>
                          <a:ext cx="152388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>
                          <a:off x="3733560" y="3565800"/>
                          <a:ext cx="0" cy="76176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3124080" y="4556160"/>
                          <a:ext cx="609480" cy="609840"/>
                        </a:xfrm>
                        <a:prstGeom prst="rect">
                          <a:avLst/>
                        </a:prstGeom>
                        <a:noFill/>
                        <a:ln w="12708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John 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Fuller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1599840" y="3946680"/>
                          <a:ext cx="609840" cy="609480"/>
                        </a:xfrm>
                        <a:prstGeom prst="rect">
                          <a:avLst/>
                        </a:prstGeom>
                        <a:noFill/>
                        <a:ln w="12708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Adam 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Hustler, 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Jr.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2209680" y="4632480"/>
                          <a:ext cx="609480" cy="609480"/>
                        </a:xfrm>
                        <a:prstGeom prst="ellipse">
                          <a:avLst/>
                        </a:prstGeom>
                        <a:noFill/>
                        <a:ln w="127080">
                          <a:solidFill>
                            <a:srgbClr val="ff99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0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Sarah </a:t>
                          </a:r>
                          <a:endParaRPr b="0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0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Best </a:t>
                          </a:r>
                          <a:endParaRPr b="0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0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Fuller</a:t>
                          </a:r>
                          <a:endParaRPr b="0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>
                          <a:off x="2819160" y="4937400"/>
                          <a:ext cx="30492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58" name=""/>
                        <p:cNvGrpSpPr/>
                        <p:nvPr/>
                      </p:nvGrpSpPr>
                      <p:grpSpPr>
                        <a:xfrm>
                          <a:off x="1066680" y="2041560"/>
                          <a:ext cx="4343400" cy="1828800"/>
                          <a:chOff x="1066680" y="2041560"/>
                          <a:chExt cx="4343400" cy="1828800"/>
                        </a:xfrm>
                      </p:grpSpPr>
                      <p:grpSp>
                        <p:nvGrpSpPr>
                          <p:cNvPr id="259" name=""/>
                          <p:cNvGrpSpPr/>
                          <p:nvPr/>
                        </p:nvGrpSpPr>
                        <p:grpSpPr>
                          <a:xfrm>
                            <a:off x="1066680" y="2041560"/>
                            <a:ext cx="4343400" cy="1828800"/>
                            <a:chOff x="1066680" y="2041560"/>
                            <a:chExt cx="4343400" cy="1828800"/>
                          </a:xfrm>
                        </p:grpSpPr>
                        <p:sp>
                          <p:nvSpPr>
                            <p:cNvPr id="260" name=""/>
                            <p:cNvSpPr/>
                            <p:nvPr/>
                          </p:nvSpPr>
                          <p:spPr>
                            <a:xfrm>
                              <a:off x="3581280" y="3565800"/>
                              <a:ext cx="304560" cy="0"/>
                            </a:xfrm>
                            <a:prstGeom prst="line">
                              <a:avLst/>
                            </a:prstGeom>
                            <a:ln w="255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261" name=""/>
                            <p:cNvGrpSpPr/>
                            <p:nvPr/>
                          </p:nvGrpSpPr>
                          <p:grpSpPr>
                            <a:xfrm>
                              <a:off x="1066680" y="2041560"/>
                              <a:ext cx="4343400" cy="1828800"/>
                              <a:chOff x="1066680" y="2041560"/>
                              <a:chExt cx="4343400" cy="1828800"/>
                            </a:xfrm>
                          </p:grpSpPr>
                          <p:sp>
                            <p:nvSpPr>
                              <p:cNvPr id="262" name=""/>
                              <p:cNvSpPr/>
                              <p:nvPr/>
                            </p:nvSpPr>
                            <p:spPr>
                              <a:xfrm>
                                <a:off x="1981080" y="3260520"/>
                                <a:ext cx="609480" cy="609840"/>
                              </a:xfrm>
                              <a:prstGeom prst="ellipse">
                                <a:avLst/>
                              </a:prstGeom>
                              <a:noFill/>
                              <a:ln w="127080">
                                <a:solidFill>
                                  <a:srgbClr val="ff99cc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Gwen G. 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Hustler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3" name=""/>
                              <p:cNvSpPr/>
                              <p:nvPr/>
                            </p:nvSpPr>
                            <p:spPr>
                              <a:xfrm>
                                <a:off x="4800600" y="3260520"/>
                                <a:ext cx="609480" cy="609840"/>
                              </a:xfrm>
                              <a:prstGeom prst="rect">
                                <a:avLst/>
                              </a:prstGeom>
                              <a:noFill/>
                              <a:ln w="127080">
                                <a:solidFill>
                                  <a:srgbClr val="0000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Jason 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Homes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4" name=""/>
                              <p:cNvSpPr/>
                              <p:nvPr/>
                            </p:nvSpPr>
                            <p:spPr>
                              <a:xfrm>
                                <a:off x="2971800" y="3184560"/>
                                <a:ext cx="609480" cy="609480"/>
                              </a:xfrm>
                              <a:prstGeom prst="rect">
                                <a:avLst/>
                              </a:prstGeom>
                              <a:noFill/>
                              <a:ln w="127080">
                                <a:solidFill>
                                  <a:srgbClr val="0000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Max 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Fuller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5" name=""/>
                              <p:cNvSpPr/>
                              <p:nvPr/>
                            </p:nvSpPr>
                            <p:spPr>
                              <a:xfrm>
                                <a:off x="1066680" y="3260520"/>
                                <a:ext cx="609480" cy="609840"/>
                              </a:xfrm>
                              <a:prstGeom prst="rect">
                                <a:avLst/>
                              </a:prstGeom>
                              <a:noFill/>
                              <a:ln w="127080">
                                <a:solidFill>
                                  <a:srgbClr val="0000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Adam 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Hustler</a:t>
                                </a:r>
                                <a:endParaRPr b="0" lang="en-US" sz="12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6" name=""/>
                              <p:cNvSpPr/>
                              <p:nvPr/>
                            </p:nvSpPr>
                            <p:spPr>
                              <a:xfrm>
                                <a:off x="3809880" y="3260520"/>
                                <a:ext cx="609480" cy="609840"/>
                              </a:xfrm>
                              <a:prstGeom prst="ellipse">
                                <a:avLst/>
                              </a:prstGeom>
                              <a:noFill/>
                              <a:ln w="127080">
                                <a:solidFill>
                                  <a:srgbClr val="ff99cc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Andrea G. 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Comic Sans MS"/>
                                  </a:rPr>
                                  <a:t>Fuller</a:t>
                                </a:r>
                                <a:endParaRPr b="0" lang="en-US" sz="10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267" name=""/>
                              <p:cNvGrpSpPr/>
                              <p:nvPr/>
                            </p:nvGrpSpPr>
                            <p:grpSpPr>
                              <a:xfrm>
                                <a:off x="2361960" y="2041560"/>
                                <a:ext cx="1600200" cy="1294560"/>
                                <a:chOff x="2361960" y="2041560"/>
                                <a:chExt cx="1600200" cy="1294560"/>
                              </a:xfrm>
                            </p:grpSpPr>
                            <p:sp>
                              <p:nvSpPr>
                                <p:cNvPr id="268" name=""/>
                                <p:cNvSpPr/>
                                <p:nvPr/>
                              </p:nvSpPr>
                              <p:spPr>
                                <a:xfrm>
                                  <a:off x="2361960" y="2041560"/>
                                  <a:ext cx="609840" cy="6094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7080">
                                  <a:solidFill>
                                    <a:srgbClr val="0000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n-US" sz="1200" spc="-1" strike="noStrike">
                                      <a:solidFill>
                                        <a:srgbClr val="000000"/>
                                      </a:solidFill>
                                      <a:latin typeface="Comic Sans MS"/>
                                    </a:rPr>
                                    <a:t>Kenneth </a:t>
                                  </a:r>
                                  <a:endPara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n-US" sz="1200" spc="-1" strike="noStrike">
                                      <a:solidFill>
                                        <a:srgbClr val="000000"/>
                                      </a:solidFill>
                                      <a:latin typeface="Comic Sans MS"/>
                                    </a:rPr>
                                    <a:t>Grange</a:t>
                                  </a:r>
                                  <a:endParaRPr b="0" lang="en-US" sz="12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9" name=""/>
                                <p:cNvSpPr/>
                                <p:nvPr/>
                              </p:nvSpPr>
                              <p:spPr>
                                <a:xfrm>
                                  <a:off x="3352680" y="2041560"/>
                                  <a:ext cx="609480" cy="609480"/>
                                </a:xfrm>
                                <a:prstGeom prst="ellipse">
                                  <a:avLst/>
                                </a:prstGeom>
                                <a:noFill/>
                                <a:ln w="127080">
                                  <a:solidFill>
                                    <a:srgbClr val="ff99cc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46800" bIns="46800" anchor="ctr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n-US" sz="1000" spc="-1" strike="noStrike">
                                      <a:solidFill>
                                        <a:srgbClr val="000000"/>
                                      </a:solidFill>
                                      <a:latin typeface="Comic Sans MS"/>
                                    </a:rPr>
                                    <a:t>Edith M. </a:t>
                                  </a:r>
                                  <a:endPara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n-US" sz="1000" spc="-1" strike="noStrike">
                                      <a:solidFill>
                                        <a:srgbClr val="000000"/>
                                      </a:solidFill>
                                      <a:latin typeface="Comic Sans MS"/>
                                    </a:rPr>
                                    <a:t>Grange</a:t>
                                  </a:r>
                                  <a:endParaRPr b="0" lang="en-US" sz="10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70" name=""/>
                                <p:cNvGrpSpPr/>
                                <p:nvPr/>
                              </p:nvGrpSpPr>
                              <p:grpSpPr>
                                <a:xfrm>
                                  <a:off x="2514600" y="2803320"/>
                                  <a:ext cx="1370880" cy="532800"/>
                                  <a:chOff x="2514600" y="2803320"/>
                                  <a:chExt cx="1370880" cy="532800"/>
                                </a:xfrm>
                              </p:grpSpPr>
                              <p:sp>
                                <p:nvSpPr>
                                  <p:cNvPr id="271" name=""/>
                                  <p:cNvSpPr/>
                                  <p:nvPr/>
                                </p:nvSpPr>
                                <p:spPr>
                                  <a:xfrm>
                                    <a:off x="3200040" y="2803320"/>
                                    <a:ext cx="685440" cy="532800"/>
                                  </a:xfrm>
                                  <a:prstGeom prst="line">
                                    <a:avLst/>
                                  </a:prstGeom>
                                  <a:ln w="255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72" name=""/>
                                  <p:cNvSpPr/>
                                  <p:nvPr/>
                                </p:nvSpPr>
                                <p:spPr>
                                  <a:xfrm flipH="1">
                                    <a:off x="2514600" y="2803320"/>
                                    <a:ext cx="685440" cy="532800"/>
                                  </a:xfrm>
                                  <a:prstGeom prst="line">
                                    <a:avLst/>
                                  </a:prstGeom>
                                  <a:ln w="255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273" name=""/>
                                <p:cNvSpPr/>
                                <p:nvPr/>
                              </p:nvSpPr>
                              <p:spPr>
                                <a:xfrm>
                                  <a:off x="3200400" y="2270160"/>
                                  <a:ext cx="0" cy="533160"/>
                                </a:xfrm>
                                <a:prstGeom prst="line">
                                  <a:avLst/>
                                </a:prstGeom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4" name=""/>
                                <p:cNvSpPr/>
                                <p:nvPr/>
                              </p:nvSpPr>
                              <p:spPr>
                                <a:xfrm>
                                  <a:off x="3047760" y="2270160"/>
                                  <a:ext cx="304920" cy="0"/>
                                </a:xfrm>
                                <a:prstGeom prst="line">
                                  <a:avLst/>
                                </a:prstGeom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275" name=""/>
                          <p:cNvSpPr/>
                          <p:nvPr/>
                        </p:nvSpPr>
                        <p:spPr>
                          <a:xfrm flipH="1">
                            <a:off x="4876560" y="3337200"/>
                            <a:ext cx="380880" cy="457200"/>
                          </a:xfrm>
                          <a:prstGeom prst="line">
                            <a:avLst/>
                          </a:prstGeom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sp>
                <p:nvSpPr>
                  <p:cNvPr id="276" name=""/>
                  <p:cNvSpPr/>
                  <p:nvPr/>
                </p:nvSpPr>
                <p:spPr>
                  <a:xfrm>
                    <a:off x="5257440" y="4327560"/>
                    <a:ext cx="0" cy="228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4876560" y="1812960"/>
                <a:ext cx="4191120" cy="3581280"/>
                <a:chOff x="4876560" y="1812960"/>
                <a:chExt cx="4191120" cy="35812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5715000" y="5013360"/>
                  <a:ext cx="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076960" y="4632120"/>
                  <a:ext cx="609840" cy="609840"/>
                </a:xfrm>
                <a:prstGeom prst="rect">
                  <a:avLst/>
                </a:prstGeom>
                <a:noFill/>
                <a:ln w="127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Hector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Gre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705360" y="4632120"/>
                  <a:ext cx="609840" cy="609840"/>
                </a:xfrm>
                <a:prstGeom prst="rect">
                  <a:avLst/>
                </a:prstGeom>
                <a:noFill/>
                <a:ln w="127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Robert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May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696080" y="3413160"/>
                  <a:ext cx="609480" cy="609480"/>
                </a:xfrm>
                <a:prstGeom prst="rect">
                  <a:avLst/>
                </a:prstGeom>
                <a:noFill/>
                <a:ln w="127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Joe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Gre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715000" y="3336840"/>
                  <a:ext cx="609480" cy="609480"/>
                </a:xfrm>
                <a:prstGeom prst="rect">
                  <a:avLst/>
                </a:prstGeom>
                <a:noFill/>
                <a:ln w="127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Philip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May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876560" y="4632120"/>
                  <a:ext cx="609840" cy="609840"/>
                </a:xfrm>
                <a:prstGeom prst="rect">
                  <a:avLst/>
                </a:prstGeom>
                <a:noFill/>
                <a:ln w="127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458200" y="3413160"/>
                  <a:ext cx="609480" cy="609480"/>
                </a:xfrm>
                <a:prstGeom prst="ellipse">
                  <a:avLst/>
                </a:prstGeom>
                <a:noFill/>
                <a:ln w="12708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Heathe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. Gree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867280" y="4632120"/>
                  <a:ext cx="609480" cy="609840"/>
                </a:xfrm>
                <a:prstGeom prst="ellipse">
                  <a:avLst/>
                </a:prstGeom>
                <a:noFill/>
                <a:ln w="12708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Gertrud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M.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Fulle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781680" y="3336840"/>
                  <a:ext cx="609480" cy="609480"/>
                </a:xfrm>
                <a:prstGeom prst="ellipse">
                  <a:avLst/>
                </a:prstGeom>
                <a:noFill/>
                <a:ln w="12708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Morgan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. May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562360" y="4937040"/>
                  <a:ext cx="304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381880" y="3641760"/>
                  <a:ext cx="0" cy="9144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172200" y="4251240"/>
                  <a:ext cx="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553080" y="3641760"/>
                  <a:ext cx="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933960" y="4251240"/>
                  <a:ext cx="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172200" y="4251240"/>
                  <a:ext cx="3808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553080" y="4251240"/>
                  <a:ext cx="3808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324480" y="36417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"/>
                <p:cNvGrpSpPr/>
                <p:nvPr/>
              </p:nvGrpSpPr>
              <p:grpSpPr>
                <a:xfrm>
                  <a:off x="7086600" y="1812960"/>
                  <a:ext cx="1676160" cy="1523880"/>
                  <a:chOff x="7086600" y="1812960"/>
                  <a:chExt cx="1676160" cy="152388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8153280" y="1812960"/>
                    <a:ext cx="609480" cy="609480"/>
                  </a:xfrm>
                  <a:prstGeom prst="ellipse">
                    <a:avLst/>
                  </a:prstGeom>
                  <a:noFill/>
                  <a:ln w="127080">
                    <a:solidFill>
                      <a:srgbClr val="ff99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Susan Z.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nn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7162560" y="1812960"/>
                    <a:ext cx="609840" cy="609480"/>
                  </a:xfrm>
                  <a:prstGeom prst="rect">
                    <a:avLst/>
                  </a:prstGeom>
                  <a:noFill/>
                  <a:ln w="127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Brian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nn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7848360" y="2117520"/>
                    <a:ext cx="304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7086600" y="2955960"/>
                    <a:ext cx="304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7924680" y="2117520"/>
                    <a:ext cx="0" cy="838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8762760" y="2879640"/>
                    <a:ext cx="0" cy="457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7086600" y="2955960"/>
                    <a:ext cx="0" cy="304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7391160" y="2955960"/>
                    <a:ext cx="1371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4" name=""/>
                <p:cNvSpPr/>
                <p:nvPr/>
              </p:nvSpPr>
              <p:spPr>
                <a:xfrm>
                  <a:off x="8153280" y="3641760"/>
                  <a:ext cx="304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"/>
            <p:cNvGrpSpPr/>
            <p:nvPr/>
          </p:nvGrpSpPr>
          <p:grpSpPr>
            <a:xfrm>
              <a:off x="838080" y="1584360"/>
              <a:ext cx="8305920" cy="3980160"/>
              <a:chOff x="838080" y="1584360"/>
              <a:chExt cx="8305920" cy="3980160"/>
            </a:xfrm>
          </p:grpSpPr>
          <p:sp>
            <p:nvSpPr>
              <p:cNvPr id="306" name=""/>
              <p:cNvSpPr/>
              <p:nvPr/>
            </p:nvSpPr>
            <p:spPr>
              <a:xfrm>
                <a:off x="1752480" y="3032280"/>
                <a:ext cx="990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/14/196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124080" y="524196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9/27/196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172200" y="303228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9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381880" y="409896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/4/19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38080" y="3946680"/>
                <a:ext cx="10670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7/30/1927-4/8/19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057400" y="531828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/14/196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543800" y="409896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/13/194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0" y="2727360"/>
                <a:ext cx="8380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/31/1900 - 197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71800" y="387036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/17/19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371600" y="4556160"/>
                <a:ext cx="83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/18/196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077320" y="309276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/4/197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086600" y="2498760"/>
                <a:ext cx="6858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/1/1917-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209680" y="379440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/1/193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886200" y="3870360"/>
                <a:ext cx="8380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/27/193697-2/5/19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705720" y="5318280"/>
                <a:ext cx="83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/12/197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971800" y="187344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7/17/19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96080" y="1584360"/>
                <a:ext cx="1219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2/20/194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077320" y="2498760"/>
                <a:ext cx="8380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/15/1917- 2/5/20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0080" y="446436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/7/199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352680" y="2727360"/>
                <a:ext cx="8384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/2/1910-198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0600" y="531828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/13/197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867280" y="531828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/24/197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590920" y="448020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7/5/199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67080" y="295596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/7/195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0600" y="3870360"/>
                <a:ext cx="8380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/6/1920-5/25/1959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077320" y="531828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/2/198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562720" y="4023000"/>
                <a:ext cx="83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7/15/194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81680" y="3930840"/>
                <a:ext cx="762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/28/194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4" name=""/>
          <p:cNvSpPr/>
          <p:nvPr/>
        </p:nvSpPr>
        <p:spPr>
          <a:xfrm>
            <a:off x="990720" y="5715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" y="5715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6080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334120" y="5715000"/>
            <a:ext cx="66348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4876920"/>
            <a:ext cx="243828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lick, drag, ed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tep 8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340" name=""/>
          <p:cNvSpPr/>
          <p:nvPr/>
        </p:nvSpPr>
        <p:spPr>
          <a:xfrm>
            <a:off x="152280" y="5715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228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228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5228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52280" y="5715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28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228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52280" y="5715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228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228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228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90720" y="5715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99072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9072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9072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5715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9072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9072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5715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9072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228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228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9072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9072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52280" y="6004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99072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5715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52280" y="6232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6537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48120" y="6095880"/>
            <a:ext cx="2590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lf shaded square/circle = Carrier of the  recessive allele for tay-sac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Fax"/>
              </a:rPr>
              <a:t>Medical information, bad habits, and/or personal history is given in the family pedigree. Information that can be inferred is added as well.</a:t>
            </a:r>
            <a:endParaRPr b="0" lang="en-US" sz="2100" spc="-1" strike="noStrike">
              <a:solidFill>
                <a:srgbClr val="000000"/>
              </a:solidFill>
              <a:latin typeface="Lucida Fax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838080" y="1523880"/>
            <a:ext cx="8305920" cy="3980160"/>
            <a:chOff x="838080" y="1523880"/>
            <a:chExt cx="8305920" cy="3980160"/>
          </a:xfrm>
        </p:grpSpPr>
        <p:sp>
          <p:nvSpPr>
            <p:cNvPr id="377" name=""/>
            <p:cNvSpPr/>
            <p:nvPr/>
          </p:nvSpPr>
          <p:spPr>
            <a:xfrm rot="10800000">
              <a:off x="3809520" y="3276720"/>
              <a:ext cx="304920" cy="457200"/>
            </a:xfrm>
            <a:prstGeom prst="flowChartDelay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838080" y="1523880"/>
              <a:ext cx="8305920" cy="3980160"/>
              <a:chOff x="838080" y="1523880"/>
              <a:chExt cx="8305920" cy="3980160"/>
            </a:xfrm>
          </p:grpSpPr>
          <p:sp>
            <p:nvSpPr>
              <p:cNvPr id="379" name=""/>
              <p:cNvSpPr/>
              <p:nvPr/>
            </p:nvSpPr>
            <p:spPr>
              <a:xfrm>
                <a:off x="3124080" y="4419720"/>
                <a:ext cx="609840" cy="609480"/>
              </a:xfrm>
              <a:prstGeom prst="rect">
                <a:avLst/>
              </a:pr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362320" y="1981080"/>
                <a:ext cx="228600" cy="609840"/>
              </a:xfrm>
              <a:prstGeom prst="rect">
                <a:avLst/>
              </a:pr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8120" y="3048120"/>
                <a:ext cx="228600" cy="609480"/>
              </a:xfrm>
              <a:prstGeom prst="rect">
                <a:avLst/>
              </a:prstGeom>
              <a:solidFill>
                <a:srgbClr val="33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2" name=""/>
              <p:cNvGrpSpPr/>
              <p:nvPr/>
            </p:nvGrpSpPr>
            <p:grpSpPr>
              <a:xfrm>
                <a:off x="838080" y="1523880"/>
                <a:ext cx="8305920" cy="3980160"/>
                <a:chOff x="838080" y="1523880"/>
                <a:chExt cx="8305920" cy="398016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1066680" y="1752480"/>
                  <a:ext cx="8001000" cy="3581280"/>
                  <a:chOff x="1066680" y="1752480"/>
                  <a:chExt cx="8001000" cy="3581280"/>
                </a:xfrm>
              </p:grpSpPr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1066680" y="1981080"/>
                    <a:ext cx="4419360" cy="3200400"/>
                    <a:chOff x="1066680" y="1981080"/>
                    <a:chExt cx="4419360" cy="320040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3428640" y="4267080"/>
                      <a:ext cx="3049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86" name=""/>
                    <p:cNvGrpSpPr/>
                    <p:nvPr/>
                  </p:nvGrpSpPr>
                  <p:grpSpPr>
                    <a:xfrm>
                      <a:off x="1066680" y="1981080"/>
                      <a:ext cx="4419360" cy="3200400"/>
                      <a:chOff x="1066680" y="1981080"/>
                      <a:chExt cx="4419360" cy="3200400"/>
                    </a:xfrm>
                  </p:grpSpPr>
                  <p:sp>
                    <p:nvSpPr>
                      <p:cNvPr id="387" name=""/>
                      <p:cNvSpPr/>
                      <p:nvPr/>
                    </p:nvSpPr>
                    <p:spPr>
                      <a:xfrm>
                        <a:off x="3428640" y="4191120"/>
                        <a:ext cx="0" cy="30456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88" name=""/>
                      <p:cNvGrpSpPr/>
                      <p:nvPr/>
                    </p:nvGrpSpPr>
                    <p:grpSpPr>
                      <a:xfrm>
                        <a:off x="1066680" y="1981080"/>
                        <a:ext cx="4419360" cy="3200400"/>
                        <a:chOff x="1066680" y="1981080"/>
                        <a:chExt cx="4419360" cy="3200400"/>
                      </a:xfrm>
                    </p:grpSpPr>
                    <p:sp>
                      <p:nvSpPr>
                        <p:cNvPr id="389" name=""/>
                        <p:cNvSpPr/>
                        <p:nvPr/>
                      </p:nvSpPr>
                      <p:spPr>
                        <a:xfrm>
                          <a:off x="1904760" y="3429000"/>
                          <a:ext cx="0" cy="30492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0" name=""/>
                        <p:cNvSpPr/>
                        <p:nvPr/>
                      </p:nvSpPr>
                      <p:spPr>
                        <a:xfrm>
                          <a:off x="1752480" y="3429000"/>
                          <a:ext cx="30456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1" name=""/>
                        <p:cNvSpPr/>
                        <p:nvPr/>
                      </p:nvSpPr>
                      <p:spPr>
                        <a:xfrm>
                          <a:off x="4419360" y="3429000"/>
                          <a:ext cx="30492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92" name=""/>
                        <p:cNvGrpSpPr/>
                        <p:nvPr/>
                      </p:nvGrpSpPr>
                      <p:grpSpPr>
                        <a:xfrm>
                          <a:off x="1066680" y="1981080"/>
                          <a:ext cx="4419360" cy="3200400"/>
                          <a:chOff x="1066680" y="1981080"/>
                          <a:chExt cx="4419360" cy="3200400"/>
                        </a:xfrm>
                      </p:grpSpPr>
                      <p:sp>
                        <p:nvSpPr>
                          <p:cNvPr id="393" name=""/>
                          <p:cNvSpPr/>
                          <p:nvPr/>
                        </p:nvSpPr>
                        <p:spPr>
                          <a:xfrm>
                            <a:off x="4876560" y="4572000"/>
                            <a:ext cx="609480" cy="609480"/>
                          </a:xfrm>
                          <a:prstGeom prst="rect">
                            <a:avLst/>
                          </a:prstGeom>
                          <a:noFill/>
                          <a:ln w="127080">
                            <a:solidFill>
                              <a:srgbClr val="0000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1200" spc="-1" strike="noStrike">
                                <a:solidFill>
                                  <a:srgbClr val="000000"/>
                                </a:solidFill>
                                <a:latin typeface="Comic Sans MS"/>
                              </a:rPr>
                              <a:t>James 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1200" spc="-1" strike="noStrike">
                                <a:solidFill>
                                  <a:srgbClr val="000000"/>
                                </a:solidFill>
                                <a:latin typeface="Comic Sans MS"/>
                              </a:rPr>
                              <a:t>Fuller 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394" name=""/>
                          <p:cNvGrpSpPr/>
                          <p:nvPr/>
                        </p:nvGrpSpPr>
                        <p:grpSpPr>
                          <a:xfrm>
                            <a:off x="1066680" y="1981080"/>
                            <a:ext cx="4343400" cy="3200400"/>
                            <a:chOff x="1066680" y="1981080"/>
                            <a:chExt cx="4343400" cy="3200400"/>
                          </a:xfrm>
                        </p:grpSpPr>
                        <p:sp>
                          <p:nvSpPr>
                            <p:cNvPr id="395" name=""/>
                            <p:cNvSpPr/>
                            <p:nvPr/>
                          </p:nvSpPr>
                          <p:spPr>
                            <a:xfrm>
                              <a:off x="3733560" y="4267080"/>
                              <a:ext cx="1523880" cy="0"/>
                            </a:xfrm>
                            <a:prstGeom prst="line">
                              <a:avLst/>
                            </a:prstGeom>
                            <a:ln w="255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96" name=""/>
                            <p:cNvSpPr/>
                            <p:nvPr/>
                          </p:nvSpPr>
                          <p:spPr>
                            <a:xfrm>
                              <a:off x="3733560" y="3505320"/>
                              <a:ext cx="0" cy="761760"/>
                            </a:xfrm>
                            <a:prstGeom prst="line">
                              <a:avLst/>
                            </a:prstGeom>
                            <a:ln w="255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97" name=""/>
                            <p:cNvSpPr/>
                            <p:nvPr/>
                          </p:nvSpPr>
                          <p:spPr>
                            <a:xfrm>
                              <a:off x="3124080" y="4495680"/>
                              <a:ext cx="609480" cy="609840"/>
                            </a:xfrm>
                            <a:prstGeom prst="rect">
                              <a:avLst/>
                            </a:prstGeom>
                            <a:noFill/>
                            <a:ln w="127080">
                              <a:solidFill>
                                <a:srgbClr val="0000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John 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Fuller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98" name=""/>
                            <p:cNvSpPr/>
                            <p:nvPr/>
                          </p:nvSpPr>
                          <p:spPr>
                            <a:xfrm>
                              <a:off x="1599840" y="3886200"/>
                              <a:ext cx="609840" cy="609480"/>
                            </a:xfrm>
                            <a:prstGeom prst="rect">
                              <a:avLst/>
                            </a:prstGeom>
                            <a:noFill/>
                            <a:ln w="127080">
                              <a:solidFill>
                                <a:srgbClr val="0000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Adam 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Hustler, 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2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Jr.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99" name=""/>
                            <p:cNvSpPr/>
                            <p:nvPr/>
                          </p:nvSpPr>
                          <p:spPr>
                            <a:xfrm>
                              <a:off x="2209680" y="4572000"/>
                              <a:ext cx="609480" cy="609480"/>
                            </a:xfrm>
                            <a:prstGeom prst="ellipse">
                              <a:avLst/>
                            </a:prstGeom>
                            <a:noFill/>
                            <a:ln w="127080">
                              <a:solidFill>
                                <a:srgbClr val="ff99cc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0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Sarah </a:t>
                              </a:r>
                              <a:endParaRPr b="0" lang="en-US" sz="1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0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Best </a:t>
                              </a:r>
                              <a:endParaRPr b="0" lang="en-US" sz="1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1000" spc="-1" strike="noStrike">
                                  <a:solidFill>
                                    <a:srgbClr val="000000"/>
                                  </a:solidFill>
                                  <a:latin typeface="Comic Sans MS"/>
                                </a:rPr>
                                <a:t>Fuller</a:t>
                              </a:r>
                              <a:endParaRPr b="0" lang="en-US" sz="10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00" name=""/>
                            <p:cNvSpPr/>
                            <p:nvPr/>
                          </p:nvSpPr>
                          <p:spPr>
                            <a:xfrm>
                              <a:off x="2819160" y="4876920"/>
                              <a:ext cx="304920" cy="0"/>
                            </a:xfrm>
                            <a:prstGeom prst="line">
                              <a:avLst/>
                            </a:prstGeom>
                            <a:ln w="255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401" name=""/>
                            <p:cNvGrpSpPr/>
                            <p:nvPr/>
                          </p:nvGrpSpPr>
                          <p:grpSpPr>
                            <a:xfrm>
                              <a:off x="1066680" y="1981080"/>
                              <a:ext cx="4343400" cy="1828800"/>
                              <a:chOff x="1066680" y="1981080"/>
                              <a:chExt cx="4343400" cy="1828800"/>
                            </a:xfrm>
                          </p:grpSpPr>
                          <p:grpSp>
                            <p:nvGrpSpPr>
                              <p:cNvPr id="402" name=""/>
                              <p:cNvGrpSpPr/>
                              <p:nvPr/>
                            </p:nvGrpSpPr>
                            <p:grpSpPr>
                              <a:xfrm>
                                <a:off x="1066680" y="1981080"/>
                                <a:ext cx="4343400" cy="1828800"/>
                                <a:chOff x="1066680" y="1981080"/>
                                <a:chExt cx="4343400" cy="1828800"/>
                              </a:xfrm>
                            </p:grpSpPr>
                            <p:sp>
                              <p:nvSpPr>
                                <p:cNvPr id="403" name=""/>
                                <p:cNvSpPr/>
                                <p:nvPr/>
                              </p:nvSpPr>
                              <p:spPr>
                                <a:xfrm>
                                  <a:off x="3581280" y="3505320"/>
                                  <a:ext cx="304560" cy="0"/>
                                </a:xfrm>
                                <a:prstGeom prst="line">
                                  <a:avLst/>
                                </a:prstGeom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404" name=""/>
                                <p:cNvGrpSpPr/>
                                <p:nvPr/>
                              </p:nvGrpSpPr>
                              <p:grpSpPr>
                                <a:xfrm>
                                  <a:off x="1066680" y="1981080"/>
                                  <a:ext cx="4343400" cy="1828800"/>
                                  <a:chOff x="1066680" y="1981080"/>
                                  <a:chExt cx="4343400" cy="1828800"/>
                                </a:xfrm>
                              </p:grpSpPr>
                              <p:sp>
                                <p:nvSpPr>
                                  <p:cNvPr id="405" name=""/>
                                  <p:cNvSpPr/>
                                  <p:nvPr/>
                                </p:nvSpPr>
                                <p:spPr>
                                  <a:xfrm>
                                    <a:off x="1981080" y="3200040"/>
                                    <a:ext cx="609480" cy="609840"/>
                                  </a:xfrm>
                                  <a:prstGeom prst="ellipse">
                                    <a:avLst/>
                                  </a:prstGeom>
                                  <a:noFill/>
                                  <a:ln w="127080">
                                    <a:solidFill>
                                      <a:srgbClr val="ff99cc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n-US" sz="1000" spc="-1" strike="noStrike">
                                        <a:solidFill>
                                          <a:srgbClr val="000000"/>
                                        </a:solidFill>
                                        <a:latin typeface="Comic Sans MS"/>
                                      </a:rPr>
                                      <a:t>Gwen G. </a:t>
                                    </a:r>
                                    <a:endParaRPr b="0" lang="en-US" sz="1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n-US" sz="1000" spc="-1" strike="noStrike">
                                        <a:solidFill>
                                          <a:srgbClr val="000000"/>
                                        </a:solidFill>
                                        <a:latin typeface="Comic Sans MS"/>
                                      </a:rPr>
                                      <a:t>Hustler</a:t>
                                    </a:r>
                                    <a:endParaRPr b="0" lang="en-US" sz="1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6" name=""/>
                                  <p:cNvSpPr/>
                                  <p:nvPr/>
                                </p:nvSpPr>
                                <p:spPr>
                                  <a:xfrm>
                                    <a:off x="4800600" y="3200040"/>
                                    <a:ext cx="609480" cy="60984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7080">
                                    <a:solidFill>
                                      <a:srgbClr val="0000ff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Comic Sans MS"/>
                                      </a:rPr>
                                      <a:t>Jason </a:t>
                                    </a:r>
                                    <a:endParaRPr b="0" lang="en-US" sz="12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Comic Sans MS"/>
                                      </a:rPr>
                                      <a:t>Homes</a:t>
                                    </a:r>
                                    <a:endParaRPr b="0" lang="en-US" sz="12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7" name=""/>
                                  <p:cNvSpPr/>
                                  <p:nvPr/>
                                </p:nvSpPr>
                                <p:spPr>
                                  <a:xfrm>
                                    <a:off x="2971800" y="3124080"/>
                                    <a:ext cx="609480" cy="6094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7080">
                                    <a:solidFill>
                                      <a:srgbClr val="0000ff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Comic Sans MS"/>
                                      </a:rPr>
                                      <a:t>Max </a:t>
                                    </a:r>
                                    <a:endParaRPr b="0" lang="en-US" sz="12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Comic Sans MS"/>
                                      </a:rPr>
                                      <a:t>Fuller</a:t>
                                    </a:r>
                                    <a:endParaRPr b="0" lang="en-US" sz="12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8" name=""/>
                                  <p:cNvSpPr/>
                                  <p:nvPr/>
                                </p:nvSpPr>
                                <p:spPr>
                                  <a:xfrm>
                                    <a:off x="1066680" y="3200040"/>
                                    <a:ext cx="609480" cy="60984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7080">
                                    <a:solidFill>
                                      <a:srgbClr val="0000ff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Comic Sans MS"/>
                                      </a:rPr>
                                      <a:t>Adam </a:t>
                                    </a:r>
                                    <a:endParaRPr b="0" lang="en-US" sz="12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Comic Sans MS"/>
                                      </a:rPr>
                                      <a:t>Hustler</a:t>
                                    </a:r>
                                    <a:endParaRPr b="0" lang="en-US" sz="12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9" name=""/>
                                  <p:cNvSpPr/>
                                  <p:nvPr/>
                                </p:nvSpPr>
                                <p:spPr>
                                  <a:xfrm>
                                    <a:off x="3809880" y="3200040"/>
                                    <a:ext cx="609480" cy="609840"/>
                                  </a:xfrm>
                                  <a:prstGeom prst="ellipse">
                                    <a:avLst/>
                                  </a:prstGeom>
                                  <a:noFill/>
                                  <a:ln w="127080">
                                    <a:solidFill>
                                      <a:srgbClr val="ff99cc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lIns="90000" rIns="90000" tIns="46800" bIns="46800" anchor="ctr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n-US" sz="1000" spc="-1" strike="noStrike">
                                        <a:solidFill>
                                          <a:srgbClr val="000000"/>
                                        </a:solidFill>
                                        <a:latin typeface="Comic Sans MS"/>
                                      </a:rPr>
                                      <a:t>Andrea G. </a:t>
                                    </a:r>
                                    <a:endParaRPr b="0" lang="en-US" sz="1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n-US" sz="1000" spc="-1" strike="noStrike">
                                        <a:solidFill>
                                          <a:srgbClr val="000000"/>
                                        </a:solidFill>
                                        <a:latin typeface="Comic Sans MS"/>
                                      </a:rPr>
                                      <a:t>Fuller</a:t>
                                    </a:r>
                                    <a:endParaRPr b="0" lang="en-US" sz="10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41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361960" y="1981080"/>
                                    <a:ext cx="1600200" cy="1294560"/>
                                    <a:chOff x="2361960" y="1981080"/>
                                    <a:chExt cx="1600200" cy="1294560"/>
                                  </a:xfrm>
                                </p:grpSpPr>
                                <p:sp>
                                  <p:nvSpPr>
                                    <p:cNvPr id="41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361960" y="1981080"/>
                                      <a:ext cx="609840" cy="60948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127080">
                                      <a:solidFill>
                                        <a:srgbClr val="0000ff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Kenneth 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Grange</a:t>
                                      </a:r>
                                      <a:endParaRPr b="0" lang="en-US" sz="12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352680" y="1981080"/>
                                      <a:ext cx="609480" cy="609480"/>
                                    </a:xfrm>
                                    <a:prstGeom prst="ellipse">
                                      <a:avLst/>
                                    </a:prstGeom>
                                    <a:noFill/>
                                    <a:ln w="127080">
                                      <a:solidFill>
                                        <a:srgbClr val="ff99cc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lIns="90000" rIns="90000" tIns="46800" bIns="46800" anchor="ctr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0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Edith M. </a:t>
                                      </a:r>
                                      <a:endParaRPr b="0" lang="en-US" sz="1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n-US" sz="1000" spc="-1" strike="noStrike">
                                          <a:solidFill>
                                            <a:srgbClr val="000000"/>
                                          </a:solidFill>
                                          <a:latin typeface="Comic Sans MS"/>
                                        </a:rPr>
                                        <a:t>Grange</a:t>
                                      </a:r>
                                      <a:endParaRPr b="0" lang="en-US" sz="10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413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2514600" y="2742840"/>
                                      <a:ext cx="1370880" cy="532800"/>
                                      <a:chOff x="2514600" y="2742840"/>
                                      <a:chExt cx="1370880" cy="532800"/>
                                    </a:xfrm>
                                  </p:grpSpPr>
                                  <p:sp>
                                    <p:nvSpPr>
                                      <p:cNvPr id="414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3200040" y="2742840"/>
                                        <a:ext cx="685440" cy="532800"/>
                                      </a:xfrm>
                                      <a:prstGeom prst="line">
                                        <a:avLst/>
                                      </a:prstGeom>
                                      <a:ln w="255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415" name=""/>
                                      <p:cNvSpPr/>
                                      <p:nvPr/>
                                    </p:nvSpPr>
                                    <p:spPr>
                                      <a:xfrm flipH="1">
                                        <a:off x="2514600" y="2742840"/>
                                        <a:ext cx="685440" cy="532800"/>
                                      </a:xfrm>
                                      <a:prstGeom prst="line">
                                        <a:avLst/>
                                      </a:prstGeom>
                                      <a:ln w="255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41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200400" y="2209680"/>
                                      <a:ext cx="0" cy="533160"/>
                                    </a:xfrm>
                                    <a:prstGeom prst="line">
                                      <a:avLst/>
                                    </a:prstGeom>
                                    <a:ln w="255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17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47760" y="2209680"/>
                                      <a:ext cx="304920" cy="0"/>
                                    </a:xfrm>
                                    <a:prstGeom prst="line">
                                      <a:avLst/>
                                    </a:prstGeom>
                                    <a:ln w="255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sp>
                            <p:nvSpPr>
                              <p:cNvPr id="418" name=""/>
                              <p:cNvSpPr/>
                              <p:nvPr/>
                            </p:nvSpPr>
                            <p:spPr>
                              <a:xfrm flipH="1">
                                <a:off x="4876560" y="3276720"/>
                                <a:ext cx="380880" cy="457200"/>
                              </a:xfrm>
                              <a:prstGeom prst="line">
                                <a:avLst/>
                              </a:prstGeom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sp>
                    <p:nvSpPr>
                      <p:cNvPr id="419" name=""/>
                      <p:cNvSpPr/>
                      <p:nvPr/>
                    </p:nvSpPr>
                    <p:spPr>
                      <a:xfrm>
                        <a:off x="5257440" y="4267080"/>
                        <a:ext cx="0" cy="22860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20" name=""/>
                  <p:cNvGrpSpPr/>
                  <p:nvPr/>
                </p:nvGrpSpPr>
                <p:grpSpPr>
                  <a:xfrm>
                    <a:off x="4876560" y="1752480"/>
                    <a:ext cx="4191120" cy="3581280"/>
                    <a:chOff x="4876560" y="1752480"/>
                    <a:chExt cx="4191120" cy="3581280"/>
                  </a:xfrm>
                </p:grpSpPr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5715000" y="4952880"/>
                      <a:ext cx="0" cy="3808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"/>
                    <p:cNvSpPr/>
                    <p:nvPr/>
                  </p:nvSpPr>
                  <p:spPr>
                    <a:xfrm>
                      <a:off x="8076960" y="4571640"/>
                      <a:ext cx="609840" cy="609840"/>
                    </a:xfrm>
                    <a:prstGeom prst="rect">
                      <a:avLst/>
                    </a:prstGeom>
                    <a:noFill/>
                    <a:ln w="127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ct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6705360" y="4571640"/>
                      <a:ext cx="609840" cy="609840"/>
                    </a:xfrm>
                    <a:prstGeom prst="rect">
                      <a:avLst/>
                    </a:prstGeom>
                    <a:noFill/>
                    <a:ln w="127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ber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7696080" y="3352680"/>
                      <a:ext cx="609480" cy="609480"/>
                    </a:xfrm>
                    <a:prstGeom prst="rect">
                      <a:avLst/>
                    </a:prstGeom>
                    <a:noFill/>
                    <a:ln w="127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5715000" y="3276360"/>
                      <a:ext cx="609480" cy="609480"/>
                    </a:xfrm>
                    <a:prstGeom prst="rect">
                      <a:avLst/>
                    </a:prstGeom>
                    <a:noFill/>
                    <a:ln w="127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hil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4876560" y="4571640"/>
                      <a:ext cx="609840" cy="609840"/>
                    </a:xfrm>
                    <a:prstGeom prst="rect">
                      <a:avLst/>
                    </a:prstGeom>
                    <a:noFill/>
                    <a:ln w="127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8458200" y="3352680"/>
                      <a:ext cx="609480" cy="609480"/>
                    </a:xfrm>
                    <a:prstGeom prst="ellipse">
                      <a:avLst/>
                    </a:prstGeom>
                    <a:noFill/>
                    <a:ln w="127080">
                      <a:solidFill>
                        <a:srgbClr val="ff99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t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. Gr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5867280" y="4571640"/>
                      <a:ext cx="609480" cy="609840"/>
                    </a:xfrm>
                    <a:prstGeom prst="ellipse">
                      <a:avLst/>
                    </a:prstGeom>
                    <a:noFill/>
                    <a:ln w="127080">
                      <a:solidFill>
                        <a:srgbClr val="ff99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rtru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ll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6781680" y="3276360"/>
                      <a:ext cx="609480" cy="609480"/>
                    </a:xfrm>
                    <a:prstGeom prst="ellipse">
                      <a:avLst/>
                    </a:prstGeom>
                    <a:noFill/>
                    <a:ln w="127080">
                      <a:solidFill>
                        <a:srgbClr val="ff99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ga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. M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5562360" y="4876560"/>
                      <a:ext cx="3049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8381880" y="3581280"/>
                      <a:ext cx="0" cy="9144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172200" y="4190760"/>
                      <a:ext cx="0" cy="30492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553080" y="3581280"/>
                      <a:ext cx="0" cy="6094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6933960" y="4190760"/>
                      <a:ext cx="0" cy="30492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6172200" y="4190760"/>
                      <a:ext cx="3808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6553080" y="4190760"/>
                      <a:ext cx="3808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6324480" y="3581280"/>
                      <a:ext cx="4572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8" name=""/>
                    <p:cNvGrpSpPr/>
                    <p:nvPr/>
                  </p:nvGrpSpPr>
                  <p:grpSpPr>
                    <a:xfrm>
                      <a:off x="7086600" y="1752480"/>
                      <a:ext cx="1676160" cy="1523880"/>
                      <a:chOff x="7086600" y="1752480"/>
                      <a:chExt cx="1676160" cy="1523880"/>
                    </a:xfrm>
                  </p:grpSpPr>
                  <p:sp>
                    <p:nvSpPr>
                      <p:cNvPr id="439" name=""/>
                      <p:cNvSpPr/>
                      <p:nvPr/>
                    </p:nvSpPr>
                    <p:spPr>
                      <a:xfrm>
                        <a:off x="8153280" y="1752480"/>
                        <a:ext cx="609480" cy="609480"/>
                      </a:xfrm>
                      <a:prstGeom prst="ellipse">
                        <a:avLst/>
                      </a:prstGeom>
                      <a:noFill/>
                      <a:ln w="127080">
                        <a:solidFill>
                          <a:srgbClr val="ff99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Susan Z. 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Anne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"/>
                      <p:cNvSpPr/>
                      <p:nvPr/>
                    </p:nvSpPr>
                    <p:spPr>
                      <a:xfrm>
                        <a:off x="7162560" y="1752480"/>
                        <a:ext cx="609840" cy="609480"/>
                      </a:xfrm>
                      <a:prstGeom prst="rect">
                        <a:avLst/>
                      </a:prstGeom>
                      <a:noFill/>
                      <a:ln w="1270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Brian 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Comic Sans MS"/>
                          </a:rPr>
                          <a:t>Anne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1" name=""/>
                      <p:cNvSpPr/>
                      <p:nvPr/>
                    </p:nvSpPr>
                    <p:spPr>
                      <a:xfrm>
                        <a:off x="7848360" y="2057040"/>
                        <a:ext cx="30492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086600" y="2895480"/>
                        <a:ext cx="30456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3" name=""/>
                      <p:cNvSpPr/>
                      <p:nvPr/>
                    </p:nvSpPr>
                    <p:spPr>
                      <a:xfrm>
                        <a:off x="7924680" y="2057040"/>
                        <a:ext cx="0" cy="83844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8762760" y="2819160"/>
                        <a:ext cx="0" cy="45720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086600" y="2895480"/>
                        <a:ext cx="0" cy="30456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391160" y="2895480"/>
                        <a:ext cx="137160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8153280" y="3581280"/>
                      <a:ext cx="3049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838080" y="1523880"/>
                  <a:ext cx="8305920" cy="3980160"/>
                  <a:chOff x="838080" y="1523880"/>
                  <a:chExt cx="8305920" cy="398016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1752480" y="2971800"/>
                    <a:ext cx="9907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4/14/196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3124080" y="5181480"/>
                    <a:ext cx="762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9/27/196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6172200" y="2971800"/>
                    <a:ext cx="6858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197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8381880" y="4038480"/>
                    <a:ext cx="762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5/4/195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838080" y="3886200"/>
                    <a:ext cx="1067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7/30/1927-4/8/197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2057400" y="5257800"/>
                    <a:ext cx="762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3/14/196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543800" y="4038480"/>
                    <a:ext cx="762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1/13/194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286000" y="2666880"/>
                    <a:ext cx="83808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2/31/1900 - 197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2971800" y="3809880"/>
                    <a:ext cx="762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3/17/193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1371600" y="4495680"/>
                    <a:ext cx="8380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8/18/196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8077320" y="3032280"/>
                    <a:ext cx="6858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3/4/197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7086600" y="2438280"/>
                    <a:ext cx="68580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4/1/1917-200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2209680" y="3733920"/>
                    <a:ext cx="6858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1/1/193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3886200" y="3809880"/>
                    <a:ext cx="83808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5/27/193697-2/5/197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6705720" y="5257800"/>
                    <a:ext cx="8380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3/12/197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2971800" y="1812960"/>
                    <a:ext cx="762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7/17/193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7696080" y="1523880"/>
                    <a:ext cx="1219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12/20/194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8077320" y="2438280"/>
                    <a:ext cx="83808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10/15/1917- 2/5/200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5410080" y="4403880"/>
                    <a:ext cx="6858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5/7/199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3352680" y="2666880"/>
                    <a:ext cx="8384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6/2/1910-1988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4800600" y="5257800"/>
                    <a:ext cx="762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1/13/197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867280" y="5257800"/>
                    <a:ext cx="762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4/24/197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2590920" y="4419720"/>
                    <a:ext cx="6858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7/5/199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4267080" y="2895480"/>
                    <a:ext cx="6858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8/7/195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4800600" y="3809880"/>
                    <a:ext cx="83808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2/6/1920-5/25/1959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8077320" y="5257800"/>
                    <a:ext cx="6858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4/2/198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5562720" y="3962520"/>
                    <a:ext cx="8380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7/15/194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781680" y="3870360"/>
                    <a:ext cx="762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8/28/194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77" name=""/>
          <p:cNvSpPr/>
          <p:nvPr/>
        </p:nvSpPr>
        <p:spPr>
          <a:xfrm rot="10800000">
            <a:off x="1599840" y="5486400"/>
            <a:ext cx="304920" cy="457200"/>
          </a:xfrm>
          <a:prstGeom prst="flowChartDelay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10800000">
            <a:off x="1599840" y="5486400"/>
            <a:ext cx="304920" cy="457200"/>
          </a:xfrm>
          <a:prstGeom prst="flowChartDelay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10800000">
            <a:off x="1599840" y="5486400"/>
            <a:ext cx="304920" cy="457200"/>
          </a:xfrm>
          <a:prstGeom prst="flowChartDelay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rot="10800000">
            <a:off x="1599840" y="5562720"/>
            <a:ext cx="304920" cy="457200"/>
          </a:xfrm>
          <a:prstGeom prst="flowChartDelay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10800000">
            <a:off x="1599840" y="5486400"/>
            <a:ext cx="304920" cy="457200"/>
          </a:xfrm>
          <a:prstGeom prst="flowChartDelay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76520" y="6172200"/>
            <a:ext cx="228600" cy="60948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676520" y="6172200"/>
            <a:ext cx="228600" cy="60948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676520" y="6172200"/>
            <a:ext cx="228600" cy="60948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676520" y="6172200"/>
            <a:ext cx="228600" cy="60948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6172200"/>
            <a:ext cx="228600" cy="60948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2280" y="5562720"/>
            <a:ext cx="609840" cy="60948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52280" y="5562720"/>
            <a:ext cx="609840" cy="60948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52280" y="5562720"/>
            <a:ext cx="609840" cy="60948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52280" y="5562720"/>
            <a:ext cx="609840" cy="60948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52280" y="5562720"/>
            <a:ext cx="609840" cy="60948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2280" y="5562720"/>
            <a:ext cx="609840" cy="60948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28600" y="6248520"/>
            <a:ext cx="457200" cy="609480"/>
          </a:xfrm>
          <a:prstGeom prst="octagon">
            <a:avLst>
              <a:gd name="adj" fmla="val 29287"/>
            </a:avLst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" y="6172200"/>
            <a:ext cx="457200" cy="609480"/>
          </a:xfrm>
          <a:prstGeom prst="octagon">
            <a:avLst>
              <a:gd name="adj" fmla="val 29287"/>
            </a:avLst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28600" y="6248520"/>
            <a:ext cx="457200" cy="609480"/>
          </a:xfrm>
          <a:prstGeom prst="octagon">
            <a:avLst>
              <a:gd name="adj" fmla="val 29287"/>
            </a:avLst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8600" y="6248520"/>
            <a:ext cx="457200" cy="609480"/>
          </a:xfrm>
          <a:prstGeom prst="octagon">
            <a:avLst>
              <a:gd name="adj" fmla="val 29287"/>
            </a:avLst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28600" y="6248520"/>
            <a:ext cx="457200" cy="609480"/>
          </a:xfrm>
          <a:prstGeom prst="octagon">
            <a:avLst>
              <a:gd name="adj" fmla="val 29287"/>
            </a:avLst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5432400" y="5527800"/>
            <a:ext cx="66348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23:31:11Z</dcterms:created>
  <dc:creator>Greenville Schools</dc:creator>
  <dc:description/>
  <dc:language>en-US</dc:language>
  <cp:lastModifiedBy>Greenville Schools</cp:lastModifiedBy>
  <dcterms:modified xsi:type="dcterms:W3CDTF">2008-03-03T01:12:42Z</dcterms:modified>
  <cp:revision>15</cp:revision>
  <dc:subject/>
  <dc:title>Slide 1</dc:title>
</cp:coreProperties>
</file>